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164960" y="1240920"/>
            <a:ext cx="4467240" cy="3349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E710B-D44F-45ED-AACE-FECA2BA64C3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D0F76-6AC9-4681-B59A-D84985A41D73}"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
        <p:nvSpPr>
          <p:cNvPr id="1279" name="Text Box 1"/>
          <p:cNvSpPr/>
          <p:nvPr/>
        </p:nvSpPr>
        <p:spPr>
          <a:xfrm>
            <a:off x="882720" y="74448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280" name="PlaceHolder 1"/>
          <p:cNvSpPr>
            <a:spLocks noGrp="1"/>
          </p:cNvSpPr>
          <p:nvPr>
            <p:ph type="body"/>
          </p:nvPr>
        </p:nvSpPr>
        <p:spPr>
          <a:xfrm>
            <a:off x="672840" y="4714560"/>
            <a:ext cx="5383080" cy="4468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C7CDA-FF5A-451F-998D-CCAA039E5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27195-D10A-4719-ADCE-A60546BA7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9D7BA-CE49-4643-89C9-84B30A5182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54A81D-4B8A-4F08-BBCA-7534F75FE8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208BA-B7B4-49CC-A5D3-670D1C63D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6E44E-D4BF-49BF-9BD2-827E95082C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E1C49B-0724-4B9C-85C4-FAB35D829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0A490-808C-42E0-9935-680E8E486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337C43-7B17-4F16-B762-BF43191A6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4A45E1-B3D8-45A8-AF44-F2E0BDF266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5E2D02-A5C2-4B70-B812-CA5701D985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94AD9C-B41E-4779-A378-4012F15602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49C77-FEDA-4B50-B9E9-D3F112416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46353C-BF94-4F04-BD1B-9DF806F05D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D2C157-6F0C-4784-91B8-A98087A5EA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C0E7FD-F33E-4EA7-9B4E-45D22CDC78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0DD81F-330A-477E-8B91-5FB437CA30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31CAA4-01F9-4C71-8FBA-B11E4F46FA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45856-33C7-4378-B94D-48CC23635E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35D8A0-DF83-41A8-ACBA-6F14F5FE80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1E5F36-A984-41D3-A2BB-990DE16F65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103EBF-2802-4B7C-B42E-E44115B0F9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DB7CEF-11D1-47F2-A2F6-F7002F6D70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9AD24-94DC-453B-A2CE-3A2B22823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845681-68CB-45ED-A727-82084D36CA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5D698E-4DB1-4315-A48A-9EE9F68B9B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18F12B-BF37-44E1-B9BA-7EB1BC2AA1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1528EB-65E0-4532-A280-A798E7BF58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49C555-7F4F-4E73-8091-8203972222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CF6F9B-8CC8-4764-B046-5813A1A686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76092A-298D-4348-96A3-CEBD236C4D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F99219-A562-4987-937F-BFCFF4040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CA2A02-6C89-458F-B7FD-EF25D306FF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A7E8DC-AC7E-49D3-9381-AF1AC952BB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24E82-6636-481D-8E1C-F772F1DD7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CEA520-7383-4485-A26D-FF19243DB3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2F5ADB-CD5E-4F83-9CE5-FE877BEC58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B7DAAD-2448-4A0C-B4F5-FE2CEB1269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673D78-9895-432D-A331-BBF4D18874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D5E1CE-3D9B-4135-8FFC-9031954697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BE3057-D881-4490-99CA-F4A4695AAF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C8EE13-3E8F-4619-8EE1-9F0319F6C1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BFF18B-396A-416C-B98C-F3287ED245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75BAD6-1549-4553-B337-D7C8C68585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E14EDE-F084-4A06-8792-F957B72B3F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70BA2-5C47-4122-AB8E-ED8CA26AF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C5BF67-D80C-4F07-B32B-43533CB317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91EDDE-39E6-4379-A77B-40BDBB4D55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B6C8FE-C1BB-4DF3-BB41-460019B035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4986FC-6E8C-4438-B511-8149BC987E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AC7231-F94D-4593-9456-32FB71E0F1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785E04-8B18-46C4-AA4D-72C7CEC625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053752-054D-4818-B9CA-C264AB710E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A890A8-E4DA-4AAB-9217-949E4CBF4B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4E661C-CF11-4413-B2F7-8EAD84C385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8664F2-86FF-4474-8916-5FBC699F2E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72571-9D68-4212-80CE-8FCE6763C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A47CE3-5AFD-4873-BC73-D03787EC23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7D91DA-91EB-4A6E-83D3-BEF58A5149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CE4F83-BC08-4306-9BF5-52A91811EB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45002C-121A-4C99-A3E7-53F09DBAF2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324B8E-64AE-47D3-97B4-102958610A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F4CEC5-2315-4379-B3D9-06A7B2A918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BF8972-D166-49D9-A29B-CDA4405B05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EBF5049-070B-466E-A872-98C09171A4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519B41-F05C-4429-A0DC-0C63F52D13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C03E34-2947-418B-AB3A-EB61E1B73D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BBEF5-7329-4251-AA52-BBF21F23B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254444-F67E-42D1-A56A-7D5FA7B7A5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50F502-F00F-4954-A1E6-E41E8C41B2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37939D-197B-4493-B07E-20BBCE66B4E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7ABAD1-7065-45A8-AE35-E644658581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6E4318-8777-44A5-B1AD-F607AE7731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53330B-13D3-4C99-976B-319A95D81B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4562B6-FAD6-4491-ADEE-9F30F6951D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02F96E-A778-4BBF-B042-0E9459A517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207CC2-AE04-4337-99BF-01CE3924F21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A1B294A-37AD-4243-8631-F033F24772F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1AC1D-FA5B-496D-822C-AA5E87A60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B38B83-0814-4227-86E2-A04C349FE7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9C62A7-B8D3-4CF8-8B69-577D395279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4479E4-4EE3-45B4-9168-4BD5DF7154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CA21DF-FCEA-46DE-A7A8-7B0C2D17A5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99A82A-1B83-49A4-91AF-854B5783DF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E0CB4C-1429-4951-836E-859FB88C0C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93D7B6-0E6C-4AC6-9B34-BF49226E3A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5F771F-330A-4628-872D-4A7E3C808A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26FEEE-BDFA-4600-9FEC-76A6D84CA5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ACA7DC6-73B9-4F82-B8BC-E93B54C3A4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D499D-C8D5-4384-933A-A925195AA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9F7EE8F-5D25-4288-A2FB-FF77C124AAA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FE5226B-0A26-47AD-88AB-33B6912C46E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DCA9BA-EF23-4A89-B769-B87EB055BA5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75F47E-1137-41F0-94F6-3A26A1FA19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3BB51E-AD21-42D3-BE93-6CCA1DB763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C1C1DE-4CB7-4521-B3D4-F81D0212FB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C356163-9C5E-4DA9-8280-B3759D7904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AFBF2E-6B74-4A10-AAE9-F154DA76A9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A39677-3553-4B49-A68A-B1995D5DD2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8416E7-D575-4774-85A3-181CDEC8FB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A1743-817B-43EC-BDC3-59A3AF589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0D8003-C340-4F4C-9246-376EC1F6E8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9D8873E-426C-4D22-B47B-78B48564ACB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CEE6A23-B012-4186-ACBC-D9A4A1AEA4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43645DE-CADB-4DC3-A499-8DD8AA89A1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6BE44B-7308-45FA-BEB9-95DE8A98AC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FEFD20-E360-4297-A18B-D6BA255A57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742CE5-7D86-47FC-9565-094DF4FBA79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575611-67C1-4787-9140-B4AEAC299C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BD48C1-9A5F-4214-81DC-8DC13C4B11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808F86-DD8C-46A7-B551-8B8F15CB78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34B64-36A3-4699-807A-606EFF39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993D7-924F-4F0C-BC45-A273F529F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7171FC-9D99-49BA-9E6C-D7114CBB77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B37D61-6C5F-4D58-BED9-64CFA2EDE1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3DFAE44-9D29-4869-BBC1-8F2C76BAD8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52A0623-822A-4BF5-BF34-54521D83B71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922E8A8-3C58-4A3A-9B25-5E385B26BE0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0C41E-98F2-4445-8560-7B11823D6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1493A-EF51-407D-B3A7-6F2EAA5B0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B6EE4-5C1D-4437-BF40-5B1D71099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6B18A-9406-47AD-B7BF-9339D3F51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48348-A15E-4702-8EC8-C060F23F6F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CD61A-35F7-4540-9D17-FD06786E6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797D6-17BD-437D-910F-F474DBFDF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1BFA8-4B4F-4A6A-89D2-61D584D60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7BA23B-D512-4954-9031-2DBBA5C79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83E6-2A79-412D-BD05-BE95ECB3A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E9CE0-5CE6-4FA7-A7DC-766E643D9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561F3-C2D3-45D1-A443-D56AB8F8D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24319-B79F-450A-B149-B3165A5DF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51EF2-1267-4E19-A8A1-BE0F6B105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63267-3189-418B-9C92-619EF88A5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0DCC1-60E9-4A38-A955-0F3C33D432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F251BE-8283-4220-ABCF-2FC44E954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1472BC-A86C-48FB-A62D-6FE9C08385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9D845-C4A3-4EC3-9996-EBBA30E35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362C9-230F-4E36-B3E1-8B623BD7C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279F2-ADDB-423D-8B52-3A75A6ABA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288B5-4C33-466E-A1CE-80A0A20CD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8ACC3-16BF-40FB-A829-47120CA03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B21970-B2D9-4595-9229-2A834F9BB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DE2D1-AA99-402B-88F7-30B21D71F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B04BF-E48A-4710-8270-2458589DD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5EE0B-0BE4-4CB5-9802-20B4841DF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48D60-010D-45B0-A671-99722E2A8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A3925D-C6A5-4A9B-977B-6F58676F14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6887A0-AFFD-4A8B-867D-8C8BABA6A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837F7D-61A9-467D-B531-4433FE4129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4FCC-C09A-41C3-9BAE-184EBA7E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63B4F-3B28-47FA-A1FE-C4802C204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CE854-6F2F-4D85-B3D2-F36A5682F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B40B6-B9DD-42C0-B5C4-A0C1655EB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1C734C-D2C4-44B5-A354-2E02DF7289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43701-471A-49F9-84E3-FC57E91D3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0445A-8256-460E-A86B-2CF6AB964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E55AC-042A-4C59-A43E-26F6DB849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5099B-AA4C-4CFA-9965-64C9DA62C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85098-0808-4847-AE90-9FF261680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570796-1B14-4362-A661-85012FF2D1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42D2-87AB-4AC7-B315-8BDECA12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CBE7D7-C15E-4C70-AD1A-7196BB30D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750663-D10D-4530-A314-3CE3A6616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0673A-E9FC-4E30-8652-FD980640A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1BCEE-CF8D-46C6-936A-5778079D0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A89D0-E9C9-4E88-B169-FFDA8D7A8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B61939-E54F-480D-91A6-2A211CB0F0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8D526-E1F0-4FBE-BC26-A8DFACAD6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EA258-32E1-4FC8-98CC-AFF8E6AC2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1C84C-5663-421A-8A72-0CF9A4AEB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5B224-81D6-4D30-AE8B-0C9DAF266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ECFF-8A9F-4F75-A2A5-EEE1B3E96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4C7DB-3955-4A92-8FFA-6AA616716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7ACE3-35FD-41FC-99D6-5E6E39FF40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B53010-ADCE-4FA0-BE2B-9976BB001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427EF3-6A0F-4D29-A1CB-73D27DE8EB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47BBE-AB4F-4978-BF46-986B0CDF0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18187-A6C4-4501-8887-78C922CB3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FBC92-0D2D-4248-8EFA-C6B6A8F0C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EB3EDB-E7DC-482D-A248-F3D443EFE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BD623C-2EB2-491C-BC60-F89F7868F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C50D3-47AB-4218-9A37-D1D7376CF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D91D-A364-4975-89FC-68D559CFC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46FEA-CDD9-426A-8AB3-A539AD5E4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00A6D-A8A6-48C8-A1BF-7DAB2AB54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ED31B4-7C5D-4655-9829-0F572A3DF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E47339-D8E0-4467-A37C-0AD6C63530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A5A05-0537-4871-9C6E-0AC9614563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957A11-49D3-44B3-9BB5-AA8BBA7586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50ABF-DCD6-427F-8E4F-51DD1C6EB6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B5A078-AE31-436E-A166-17C152022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0DCC8D-0049-432F-B340-E89857C6B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FACF1-079B-4B85-B2B1-A7EF89489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5309-0FBA-49AA-956B-E743310A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D2083-222F-4A78-81CC-FCD0DCDE73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9F918-FE4D-41C7-AA6B-D6E999D7A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01791B-0FEA-4171-8D81-EE87308686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7632C-A1C0-4BE1-B1D7-3C48A1520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AD7D7-0C28-4F6E-9C5F-876BC33FB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1595B4-2CBF-4D14-B671-DFBEB7ECE7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C35572-0C1C-41FE-A031-F0BCBF2803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F9F1AC-6850-411A-A396-5EC02A5571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CA8004-5362-4261-8720-2D9F4D0509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9233E-E51F-4AC9-AF9C-77104CC1C3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B3FB1-DD89-4BB2-ACAE-5D2805629EE0}"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B6A58-7C8C-462F-8E9E-CC061A1A2AFB}"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B3624-E562-4AE5-BA57-AD3D5A190271}"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09FFC-CA51-4E22-A8F4-10030957E9B6}"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9E5B2-EDB0-462D-A3A9-7A17380252D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0D154-B8B3-4B70-8F5E-5E945E8D29EA}"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DEB40-EBCA-41A1-90A9-94315237613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80E4D-CF14-47CC-93C1-B5550C57DA84}"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BD13D-A679-4B42-8A73-3EFAEC728B7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CBF2F-1419-4161-9D03-86C0057E615F}"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6AB9D-CAB1-4B84-8CD6-2C6E52D0BDE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94224-2EDB-4897-84E0-661299411407}"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D241E-D2E3-48A0-9907-1050AD48E3BC}"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011A4-DF3D-446C-BD5C-2DF343EF7EE6}"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21783-AA25-4DE7-A168-AA78F83E35DA}"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59599-3401-460F-AC0C-EE7A1AA08DBA}"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F20A7-AF3B-4B83-A182-DC52F1F022DA}"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969840" y="-360"/>
            <a:ext cx="5220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entury Gothic"/>
              </a:rPr>
              <a:t>La Musica e la Scuola</a:t>
            </a:r>
            <a:br>
              <a:rPr sz="3600"/>
            </a:br>
            <a:br>
              <a:rPr sz="3600"/>
            </a:br>
            <a:r>
              <a:rPr b="0" lang="it-IT" sz="3600" spc="-1" strike="noStrike">
                <a:solidFill>
                  <a:srgbClr val="262626"/>
                </a:solidFill>
                <a:latin typeface="Century Gothic"/>
              </a:rPr>
              <a:t>          </a:t>
            </a:r>
            <a:r>
              <a:rPr b="0" lang="it-IT" sz="3600" spc="-1" strike="noStrike">
                <a:solidFill>
                  <a:srgbClr val="262626"/>
                </a:solidFill>
                <a:latin typeface="Century Gothic"/>
              </a:rPr>
              <a:t>	</a:t>
            </a:r>
            <a:r>
              <a:rPr b="0" lang="it-IT" sz="3600" spc="-1" strike="noStrike">
                <a:solidFill>
                  <a:srgbClr val="262626"/>
                </a:solidFill>
                <a:latin typeface="Century Gothic"/>
              </a:rPr>
              <a:t>   </a:t>
            </a:r>
            <a:r>
              <a:rPr b="0" lang="it-IT" sz="3600" spc="-1" strike="noStrike" u="sng">
                <a:solidFill>
                  <a:srgbClr val="262626"/>
                </a:solidFill>
                <a:uFillTx/>
                <a:latin typeface="Century Gothic"/>
              </a:rPr>
              <a:t>Cidi Nazionale</a:t>
            </a:r>
            <a:endParaRPr b="0" lang="en-US" sz="3600" spc="-1" strike="noStrike">
              <a:solidFill>
                <a:srgbClr val="262626"/>
              </a:solidFill>
              <a:latin typeface="Century Gothic"/>
            </a:endParaRPr>
          </a:p>
        </p:txBody>
      </p:sp>
      <p:sp>
        <p:nvSpPr>
          <p:cNvPr id="1184" name=""/>
          <p:cNvSpPr txBox="1"/>
          <p:nvPr/>
        </p:nvSpPr>
        <p:spPr>
          <a:xfrm>
            <a:off x="657360" y="2277720"/>
            <a:ext cx="7829280" cy="5032440"/>
          </a:xfrm>
          <a:prstGeom prst="rect">
            <a:avLst/>
          </a:prstGeom>
          <a:noFill/>
          <a:ln w="0">
            <a:noFill/>
          </a:ln>
        </p:spPr>
        <p:txBody>
          <a:bodyPr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325949"/>
                </a:solidFill>
                <a:latin typeface="Cambria"/>
                <a:ea typeface="Aharoni"/>
              </a:rPr>
              <a:t>Corso di preparazione al Concorso a cattedra straordinario per l’immissione in ruolo e ordinario</a:t>
            </a:r>
            <a:endParaRPr b="0" lang="en-US" sz="3000" spc="-1" strike="noStrike">
              <a:solidFill>
                <a:srgbClr val="404040"/>
              </a:solidFill>
              <a:latin typeface="Century Gothic"/>
            </a:endParaRPr>
          </a:p>
          <a:p>
            <a:pPr algn="ctr">
              <a:lnSpc>
                <a:spcPct val="100000"/>
              </a:lnSpc>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325949"/>
                </a:solidFill>
                <a:latin typeface="Cambria"/>
                <a:ea typeface="Aharoni"/>
              </a:rPr>
              <a:t>Classi di concorso: A30, A55, A56 </a:t>
            </a: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325949"/>
                </a:solidFill>
                <a:latin typeface="Cambria"/>
                <a:ea typeface="Aharoni"/>
              </a:rPr>
              <a:t>22 Ottobre 2020 </a:t>
            </a: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25949"/>
                </a:solidFill>
                <a:latin typeface="Cambria"/>
                <a:ea typeface="Aharoni"/>
              </a:rPr>
              <a:t>Ore 17.00 – 19.30</a:t>
            </a:r>
            <a:endParaRPr b="0" lang="en-US" sz="1800" spc="-1" strike="noStrike">
              <a:solidFill>
                <a:srgbClr val="404040"/>
              </a:solidFill>
              <a:latin typeface="Century Gothic"/>
            </a:endParaRPr>
          </a:p>
          <a:p>
            <a:pPr algn="ctr">
              <a:lnSpc>
                <a:spcPct val="100000"/>
              </a:lnSpc>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100" spc="-1" strike="noStrike">
                <a:solidFill>
                  <a:srgbClr val="325949"/>
                </a:solidFill>
                <a:latin typeface="Cambria"/>
                <a:ea typeface="Aharoni"/>
              </a:rPr>
              <a:t>Dott.ssa LILIANA MINUTOLI</a:t>
            </a:r>
            <a:endParaRPr b="0" lang="en-US" sz="21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325949"/>
                </a:solidFill>
                <a:latin typeface="Cambria"/>
                <a:ea typeface="Aharoni"/>
              </a:rPr>
              <a:t>lilianaminutoli@gmail.com – www.ilgiardinodelleidee.eu – Fb: Il Giardino delle Idee Palermo </a:t>
            </a:r>
            <a:endParaRPr b="0" lang="en-US" sz="1200" spc="-1" strike="noStrike">
              <a:solidFill>
                <a:srgbClr val="404040"/>
              </a:solidFill>
              <a:latin typeface="Century Gothic"/>
            </a:endParaRPr>
          </a:p>
          <a:p>
            <a:pPr algn="ctr">
              <a:lnSpc>
                <a:spcPct val="100000"/>
              </a:lnSpc>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Century Gothic"/>
            </a:endParaRPr>
          </a:p>
        </p:txBody>
      </p:sp>
      <p:pic>
        <p:nvPicPr>
          <p:cNvPr id="1185" name="Immagine 5" descr="Immagine che contiene testo&#10;&#10;Descrizione generata automaticamente"/>
          <p:cNvPicPr/>
          <p:nvPr/>
        </p:nvPicPr>
        <p:blipFill>
          <a:blip r:embed="rId1"/>
          <a:stretch/>
        </p:blipFill>
        <p:spPr>
          <a:xfrm>
            <a:off x="6529320" y="239760"/>
            <a:ext cx="2476440" cy="1523880"/>
          </a:xfrm>
          <a:prstGeom prst="rect">
            <a:avLst/>
          </a:prstGeom>
          <a:ln w="0">
            <a:noFill/>
          </a:ln>
        </p:spPr>
      </p:pic>
      <p:pic>
        <p:nvPicPr>
          <p:cNvPr id="1186" name="Immagine 2" descr="Immagine che contiene testo&#10;&#10;Descrizione generata automaticamente"/>
          <p:cNvPicPr/>
          <p:nvPr/>
        </p:nvPicPr>
        <p:blipFill>
          <a:blip r:embed="rId2"/>
          <a:stretch/>
        </p:blipFill>
        <p:spPr>
          <a:xfrm>
            <a:off x="0" y="0"/>
            <a:ext cx="9144000" cy="60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39280" y="260280"/>
            <a:ext cx="8604360" cy="6408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it-IT" sz="3600" spc="-1" strike="noStrike">
                <a:solidFill>
                  <a:srgbClr val="262626"/>
                </a:solidFill>
                <a:latin typeface="Century Gothic"/>
              </a:rPr>
              <a:t>Fornire agli allievi una completa e consapevole alfabetizzazione musicale che consenta loro di appropriarsi del linguaggio integrando i suoi aspetti tecnico-pratici  con quelli teorici, lessicali, storici e culturali (educazione/educazione musicale).</a:t>
            </a:r>
            <a:endParaRPr b="0" lang="en-US" sz="36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6583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entury Gothic"/>
              </a:rPr>
              <a:t>SIGNIFICATO EDUCATIVO/DIDATTICO</a:t>
            </a:r>
            <a:br>
              <a:rPr sz="3600"/>
            </a:br>
            <a:br>
              <a:rPr sz="2800"/>
            </a:br>
            <a:r>
              <a:rPr b="1" lang="it-IT" sz="2800" spc="-1" strike="noStrike">
                <a:solidFill>
                  <a:srgbClr val="262626"/>
                </a:solidFill>
                <a:latin typeface="Century Gothic"/>
              </a:rPr>
              <a:t>Porre il preadolescente in relazione consapevole e fattiva con gli altri soggetti; far fare musica come pratica d'insieme corale e strumentale concepita questa come strumento metodologico privilegiato, come pratica partecipativa più avanzata di quella individuale, a prescindere dai livelli di competenza raggiunti; </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6583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262626"/>
                </a:solidFill>
                <a:latin typeface="Century Gothic"/>
              </a:rPr>
              <a:t>educare l'orecchio attraverso l'ascolto guidato e ragionato dell'opera musicale, inteso come risorsa metodologica individuale e d'insieme, come mezzo indispensabile per la riproduzione orale e/o scritta di strutture musicali; sviluppare processi di attribuzione di senso; osservare e analizzare i fenomeni acustici; riconoscere gli attributi fisici del suono; sviluppare abilità senso motorie;</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680"/>
            <a:ext cx="8229600" cy="6394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262626"/>
                </a:solidFill>
                <a:latin typeface="Century Gothic"/>
              </a:rPr>
              <a:t>elaborare il materiale sonoro secondo le personali capacità creative; produrre, attraverso la pratica vocale e strumentale ritmica e intonata, melodie o brani tratti da repertori della tradizione scritta e orale; decodificare i vari aspetti del musicale (ritmico, metrico, frastico, agogico, dinamico, timbrico, armonico, formale, melodico); </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6583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262626"/>
                </a:solidFill>
                <a:latin typeface="Century Gothic"/>
              </a:rPr>
              <a:t>promuovere l'esecuzione del testo musicale attraverso la lettura, l'imitazione, l'improvvisazione, l'interpretazione, la comprensione dei parametri costitutivi il linguaggio; sviluppare la capacità di collocare in ambito storico-sociale gli eventi musicali; riconoscere generi e stili musicali; praticare condotte compositive.</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31280" y="0"/>
            <a:ext cx="7931160" cy="7286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262626"/>
                </a:solidFill>
                <a:latin typeface="Century Gothic"/>
              </a:rPr>
              <a:t>COMPETENZE</a:t>
            </a:r>
            <a:endParaRPr b="0" lang="en-US" sz="2800" spc="-1" strike="noStrike">
              <a:solidFill>
                <a:srgbClr val="262626"/>
              </a:solidFill>
              <a:latin typeface="Century Gothic"/>
            </a:endParaRPr>
          </a:p>
        </p:txBody>
      </p:sp>
      <p:sp>
        <p:nvSpPr>
          <p:cNvPr id="1212" name="Rectangle 2"/>
          <p:cNvSpPr/>
          <p:nvPr/>
        </p:nvSpPr>
        <p:spPr>
          <a:xfrm>
            <a:off x="574560" y="353880"/>
            <a:ext cx="7993080" cy="3264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ea typeface="Arial Unicode MS"/>
              </a:rPr>
              <a:t>“</a:t>
            </a:r>
            <a:r>
              <a:rPr b="0" lang="en-GB" sz="2000" spc="-1" strike="noStrike">
                <a:solidFill>
                  <a:srgbClr val="000000"/>
                </a:solidFill>
                <a:latin typeface="Arial"/>
                <a:ea typeface="Arial Unicode MS"/>
              </a:rPr>
              <a:t>Le </a:t>
            </a:r>
            <a:r>
              <a:rPr b="0" lang="en-GB" sz="2000" spc="-1" strike="noStrike">
                <a:solidFill>
                  <a:srgbClr val="ff6600"/>
                </a:solidFill>
                <a:latin typeface="Arial"/>
                <a:ea typeface="Arial Unicode MS"/>
              </a:rPr>
              <a:t>competenze</a:t>
            </a:r>
            <a:r>
              <a:rPr b="0" lang="en-GB" sz="2000" spc="-1" strike="noStrike">
                <a:solidFill>
                  <a:srgbClr val="000000"/>
                </a:solidFill>
                <a:latin typeface="Arial"/>
                <a:ea typeface="Arial Unicode MS"/>
              </a:rPr>
              <a:t> sono l’insieme delle buone capacità potenziali di ciascuno portate effettivamente al miglior compimento nelle particolari situazioni date: ovvero indicano quello che siamo effettivamente in grado di </a:t>
            </a:r>
            <a:r>
              <a:rPr b="0" lang="en-GB" sz="2000" spc="-1" strike="noStrike">
                <a:solidFill>
                  <a:srgbClr val="ff6600"/>
                </a:solidFill>
                <a:latin typeface="Arial"/>
                <a:ea typeface="Arial Unicode MS"/>
              </a:rPr>
              <a:t>fare</a:t>
            </a:r>
            <a:r>
              <a:rPr b="0" lang="en-GB" sz="2000" spc="-1" strike="noStrike">
                <a:solidFill>
                  <a:srgbClr val="000000"/>
                </a:solidFill>
                <a:latin typeface="Arial"/>
                <a:ea typeface="Arial Unicode MS"/>
              </a:rPr>
              <a:t>, </a:t>
            </a:r>
            <a:r>
              <a:rPr b="0" lang="en-GB" sz="2000" spc="-1" strike="noStrike">
                <a:solidFill>
                  <a:srgbClr val="ff6600"/>
                </a:solidFill>
                <a:latin typeface="Arial"/>
                <a:ea typeface="Arial Unicode MS"/>
              </a:rPr>
              <a:t>pensare</a:t>
            </a:r>
            <a:r>
              <a:rPr b="0" lang="en-GB" sz="2000" spc="-1" strike="noStrike">
                <a:solidFill>
                  <a:srgbClr val="000000"/>
                </a:solidFill>
                <a:latin typeface="Arial"/>
                <a:ea typeface="Arial Unicode MS"/>
              </a:rPr>
              <a:t> e </a:t>
            </a:r>
            <a:r>
              <a:rPr b="0" lang="en-GB" sz="2000" spc="-1" strike="noStrike">
                <a:solidFill>
                  <a:srgbClr val="ff6600"/>
                </a:solidFill>
                <a:latin typeface="Arial"/>
                <a:ea typeface="Arial Unicode MS"/>
              </a:rPr>
              <a:t>agire</a:t>
            </a:r>
            <a:r>
              <a:rPr b="0" lang="en-GB" sz="2000" spc="-1" strike="noStrike">
                <a:solidFill>
                  <a:srgbClr val="000000"/>
                </a:solidFill>
                <a:latin typeface="Arial"/>
                <a:ea typeface="Arial Unicode MS"/>
              </a:rPr>
              <a:t>, adesso, nell’unità della nostra persona, dinanzi all’unità complessa dei problemi e delle situazioni di un certo tipo (professionali e non professionali) che siamo chiamati ad affrontare e risolvere in un determinato contesto”.</a:t>
            </a:r>
            <a:endParaRPr b="0" lang="en-US" sz="2000" spc="-1" strike="noStrike">
              <a:solidFill>
                <a:srgbClr val="000000"/>
              </a:solidFill>
              <a:latin typeface="Century Gothic"/>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Unicode MS"/>
              </a:rPr>
              <a:t>(Ind. Naz.)</a:t>
            </a:r>
            <a:endParaRPr b="0" lang="en-US" sz="2000" spc="-1" strike="noStrike">
              <a:solidFill>
                <a:srgbClr val="000000"/>
              </a:solidFill>
              <a:latin typeface="Century Gothic"/>
            </a:endParaRPr>
          </a:p>
        </p:txBody>
      </p:sp>
      <p:sp>
        <p:nvSpPr>
          <p:cNvPr id="1213" name="Text Box 3"/>
          <p:cNvSpPr/>
          <p:nvPr/>
        </p:nvSpPr>
        <p:spPr>
          <a:xfrm>
            <a:off x="2230560" y="3138480"/>
            <a:ext cx="4681440" cy="4777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90000"/>
              </a:lnSpc>
              <a:spcBef>
                <a:spcPts val="17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2800" spc="-1" strike="noStrike">
                <a:solidFill>
                  <a:srgbClr val="000000"/>
                </a:solidFill>
                <a:latin typeface="Arial"/>
                <a:ea typeface="Arial Unicode MS"/>
              </a:rPr>
              <a:t>IN   PILLOLE …</a:t>
            </a:r>
            <a:endParaRPr b="0" lang="en-US" sz="2800" spc="-1" strike="noStrike">
              <a:solidFill>
                <a:srgbClr val="000000"/>
              </a:solidFill>
              <a:latin typeface="Century Gothic"/>
            </a:endParaRPr>
          </a:p>
        </p:txBody>
      </p:sp>
      <p:sp>
        <p:nvSpPr>
          <p:cNvPr id="1214" name="Text Box 4"/>
          <p:cNvSpPr/>
          <p:nvPr/>
        </p:nvSpPr>
        <p:spPr>
          <a:xfrm>
            <a:off x="222120" y="3592440"/>
            <a:ext cx="3556080" cy="1552680"/>
          </a:xfrm>
          <a:prstGeom prst="rect">
            <a:avLst/>
          </a:prstGeom>
          <a:gradFill rotWithShape="0">
            <a:gsLst>
              <a:gs pos="0">
                <a:srgbClr val="bbe0e3"/>
              </a:gs>
              <a:gs pos="100000">
                <a:srgbClr val="e2f1f2">
                  <a:alpha val="99215"/>
                </a:srgbClr>
              </a:gs>
            </a:gsLst>
            <a:lin ang="5400000"/>
          </a:gradFill>
          <a:ln w="9360">
            <a:solidFill>
              <a:srgbClr val="000000"/>
            </a:solidFill>
            <a:miter/>
          </a:ln>
        </p:spPr>
        <p:style>
          <a:lnRef idx="0"/>
          <a:fillRef idx="0"/>
          <a:effectRef idx="0"/>
          <a:fontRef idx="minor"/>
        </p:style>
        <p:txBody>
          <a:bodyPr lIns="90000" rIns="90000" tIns="46800" bIns="46800" anchor="ctr">
            <a:normAutofit/>
          </a:bodyPr>
          <a:p>
            <a:pPr marL="184320" indent="-92160" algn="ctr">
              <a:lnSpc>
                <a:spcPct val="90000"/>
              </a:lnSpc>
              <a:spcBef>
                <a:spcPts val="1250"/>
              </a:spcBef>
              <a:tabLst>
                <a:tab algn="l" pos="0"/>
                <a:tab algn="l" pos="184320"/>
                <a:tab algn="l" pos="1098720"/>
                <a:tab algn="l" pos="2013120"/>
                <a:tab algn="l" pos="2927520"/>
                <a:tab algn="l" pos="3841920"/>
                <a:tab algn="l" pos="4756320"/>
                <a:tab algn="l" pos="5670720"/>
                <a:tab algn="l" pos="6585120"/>
                <a:tab algn="l" pos="7499520"/>
                <a:tab algn="l" pos="8413920"/>
                <a:tab algn="l" pos="9328320"/>
                <a:tab algn="l" pos="10242720"/>
                <a:tab algn="l" pos="10515600"/>
              </a:tabLst>
            </a:pPr>
            <a:r>
              <a:rPr b="0" i="1" lang="en-GB" sz="2000" spc="-1" strike="noStrike">
                <a:solidFill>
                  <a:srgbClr val="000000"/>
                </a:solidFill>
                <a:latin typeface="Arial"/>
                <a:ea typeface="Arial Unicode MS"/>
              </a:rPr>
              <a:t>Sa orientarsi nell’esecuzione ritmico melodica e armonica di un branoe collocare fatti ed eventi nello spazio e nel tempo </a:t>
            </a:r>
            <a:endParaRPr b="0" lang="en-US" sz="2000" spc="-1" strike="noStrike">
              <a:solidFill>
                <a:srgbClr val="000000"/>
              </a:solidFill>
              <a:latin typeface="Century Gothic"/>
            </a:endParaRPr>
          </a:p>
        </p:txBody>
      </p:sp>
      <p:sp>
        <p:nvSpPr>
          <p:cNvPr id="1215" name="Text Box 5"/>
          <p:cNvSpPr/>
          <p:nvPr/>
        </p:nvSpPr>
        <p:spPr>
          <a:xfrm>
            <a:off x="431640" y="5451480"/>
            <a:ext cx="4046760" cy="1150920"/>
          </a:xfrm>
          <a:prstGeom prst="rect">
            <a:avLst/>
          </a:prstGeom>
          <a:gradFill rotWithShape="0">
            <a:gsLst>
              <a:gs pos="0">
                <a:srgbClr val="bbe0e3"/>
              </a:gs>
              <a:gs pos="100000">
                <a:srgbClr val="e8f4f5">
                  <a:alpha val="99215"/>
                </a:srgbClr>
              </a:gs>
            </a:gsLst>
            <a:lin ang="5400000"/>
          </a:gradFill>
          <a:ln w="9360">
            <a:solidFill>
              <a:srgbClr val="000000"/>
            </a:solidFill>
            <a:miter/>
          </a:ln>
        </p:spPr>
        <p:style>
          <a:lnRef idx="0"/>
          <a:fillRef idx="0"/>
          <a:effectRef idx="0"/>
          <a:fontRef idx="minor"/>
        </p:style>
        <p:txBody>
          <a:bodyPr lIns="90000" rIns="90000" tIns="46800" bIns="46800" anchor="t">
            <a:normAutofit fontScale="96000"/>
          </a:bodyPr>
          <a:p>
            <a:pPr marL="86400" algn="ctr">
              <a:lnSpc>
                <a:spcPct val="90000"/>
              </a:lnSpc>
              <a:spcBef>
                <a:spcPts val="1250"/>
              </a:spcBef>
              <a:tabLst>
                <a:tab algn="l" pos="0"/>
                <a:tab algn="l" pos="90360"/>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i="1" lang="en-GB" sz="2000" spc="-1" strike="noStrike">
                <a:solidFill>
                  <a:srgbClr val="000000"/>
                </a:solidFill>
                <a:latin typeface="Arial"/>
                <a:ea typeface="Arial Unicode MS"/>
              </a:rPr>
              <a:t>Sa esplorare la realtà sonora all’interno di un brano, utilizzando le procedure di analisi degli elementi della musica</a:t>
            </a:r>
            <a:endParaRPr b="0" lang="en-US" sz="2000" spc="-1" strike="noStrike">
              <a:solidFill>
                <a:srgbClr val="000000"/>
              </a:solidFill>
              <a:latin typeface="Century Gothic"/>
            </a:endParaRPr>
          </a:p>
        </p:txBody>
      </p:sp>
      <p:sp>
        <p:nvSpPr>
          <p:cNvPr id="1216" name="Text Box 6"/>
          <p:cNvSpPr/>
          <p:nvPr/>
        </p:nvSpPr>
        <p:spPr>
          <a:xfrm>
            <a:off x="5241960" y="3660840"/>
            <a:ext cx="3556080" cy="1200240"/>
          </a:xfrm>
          <a:prstGeom prst="rect">
            <a:avLst/>
          </a:prstGeom>
          <a:gradFill rotWithShape="0">
            <a:gsLst>
              <a:gs pos="0">
                <a:srgbClr val="bbe0e3"/>
              </a:gs>
              <a:gs pos="100000">
                <a:srgbClr val="dbeeef"/>
              </a:gs>
            </a:gsLst>
            <a:lin ang="5400000"/>
          </a:gradFill>
          <a:ln w="9360">
            <a:solidFill>
              <a:srgbClr val="000000"/>
            </a:solidFill>
            <a:miter/>
          </a:ln>
        </p:spPr>
        <p:style>
          <a:lnRef idx="0"/>
          <a:fillRef idx="0"/>
          <a:effectRef idx="0"/>
          <a:fontRef idx="minor"/>
        </p:style>
        <p:txBody>
          <a:bodyPr lIns="90000" rIns="90000" tIns="46800" bIns="46800" anchor="t">
            <a:normAutofit/>
          </a:bodyPr>
          <a:p>
            <a:pPr marL="90360" algn="ctr">
              <a:lnSpc>
                <a:spcPct val="90000"/>
              </a:lnSpc>
              <a:spcBef>
                <a:spcPts val="1250"/>
              </a:spcBef>
              <a:tabLst>
                <a:tab algn="l" pos="0"/>
                <a:tab algn="l" pos="90360"/>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i="1" lang="en-GB" sz="2000" spc="-1" strike="noStrike">
                <a:solidFill>
                  <a:srgbClr val="000000"/>
                </a:solidFill>
                <a:latin typeface="Arial"/>
                <a:ea typeface="Arial Unicode MS"/>
              </a:rPr>
              <a:t>Sa relazionarsi ed esprimersi attraverso la pratica d’insieme, rispettando i ruoli assegnati</a:t>
            </a:r>
            <a:endParaRPr b="0" lang="en-US" sz="2000" spc="-1" strike="noStrike">
              <a:solidFill>
                <a:srgbClr val="000000"/>
              </a:solidFill>
              <a:latin typeface="Century Gothic"/>
            </a:endParaRPr>
          </a:p>
        </p:txBody>
      </p:sp>
      <p:sp>
        <p:nvSpPr>
          <p:cNvPr id="1217" name="Text Box 6"/>
          <p:cNvSpPr/>
          <p:nvPr/>
        </p:nvSpPr>
        <p:spPr>
          <a:xfrm>
            <a:off x="4929120" y="5184720"/>
            <a:ext cx="3780000" cy="1386000"/>
          </a:xfrm>
          <a:prstGeom prst="rect">
            <a:avLst/>
          </a:prstGeom>
          <a:gradFill rotWithShape="0">
            <a:gsLst>
              <a:gs pos="0">
                <a:srgbClr val="bbe0e3"/>
              </a:gs>
              <a:gs pos="100000">
                <a:srgbClr val="dbeeef"/>
              </a:gs>
            </a:gsLst>
            <a:lin ang="5400000"/>
          </a:gradFill>
          <a:ln w="9360">
            <a:solidFill>
              <a:srgbClr val="000000"/>
            </a:solidFill>
            <a:miter/>
          </a:ln>
        </p:spPr>
        <p:style>
          <a:lnRef idx="0"/>
          <a:fillRef idx="0"/>
          <a:effectRef idx="0"/>
          <a:fontRef idx="minor"/>
        </p:style>
        <p:txBody>
          <a:bodyPr lIns="90000" rIns="90000" tIns="46800" bIns="46800" anchor="t">
            <a:normAutofit/>
          </a:bodyPr>
          <a:p>
            <a:pPr marL="90360">
              <a:lnSpc>
                <a:spcPct val="103000"/>
              </a:lnSpc>
              <a:tabLst>
                <a:tab algn="l" pos="0"/>
                <a:tab algn="l" pos="200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000000"/>
                </a:solidFill>
                <a:latin typeface="Calibri"/>
                <a:ea typeface="Calibri"/>
              </a:rPr>
              <a:t>Sa utilizzare sistemi di notazione musicale in funzione della lettura, dell’analisi e della riproduzione di brani musicali.</a:t>
            </a:r>
            <a:endParaRPr b="0" lang="en-US" sz="2000" spc="-1" strike="noStrike">
              <a:solidFill>
                <a:srgbClr val="000000"/>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836640" y="0"/>
            <a:ext cx="8307360" cy="85896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Spunti didattico – metodologici e  riflessioni</a:t>
            </a:r>
            <a:endParaRPr b="0" lang="en-US" sz="3200" spc="-1" strike="noStrike">
              <a:solidFill>
                <a:srgbClr val="262626"/>
              </a:solidFill>
              <a:latin typeface="Century Gothic"/>
            </a:endParaRPr>
          </a:p>
        </p:txBody>
      </p:sp>
      <p:sp>
        <p:nvSpPr>
          <p:cNvPr id="1219" name=""/>
          <p:cNvSpPr txBox="1"/>
          <p:nvPr/>
        </p:nvSpPr>
        <p:spPr>
          <a:xfrm>
            <a:off x="390240" y="1036800"/>
            <a:ext cx="8753400" cy="5821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u="sng">
                <a:solidFill>
                  <a:srgbClr val="404040"/>
                </a:solidFill>
                <a:uFillTx/>
                <a:latin typeface="Century Gothic"/>
              </a:rPr>
              <a:t>Funzioni formative musicali:</a:t>
            </a:r>
            <a:r>
              <a:rPr b="0" lang="it-IT" sz="1800" spc="-1" strike="noStrike">
                <a:solidFill>
                  <a:srgbClr val="404040"/>
                </a:solidFill>
                <a:latin typeface="Century Gothic"/>
              </a:rPr>
              <a:t> implicazioni trasversali, interdisciplinari, sociali, interculturali applicate all’essere e al crescere a scuola come futuri cittadini consapevoli</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u="sng">
                <a:solidFill>
                  <a:srgbClr val="404040"/>
                </a:solidFill>
                <a:uFillTx/>
                <a:latin typeface="Century Gothic"/>
              </a:rPr>
              <a:t>Stimoli metodologici:</a:t>
            </a:r>
            <a:r>
              <a:rPr b="1" lang="it-IT" sz="1800" spc="-1" strike="noStrike">
                <a:solidFill>
                  <a:srgbClr val="404040"/>
                </a:solidFill>
                <a:latin typeface="Century Gothic"/>
              </a:rPr>
              <a:t> costruzione di Unità d’Apprendimento</a:t>
            </a:r>
            <a:r>
              <a:rPr b="0" lang="it-IT" sz="1800" spc="-1" strike="noStrike">
                <a:solidFill>
                  <a:srgbClr val="404040"/>
                </a:solidFill>
                <a:latin typeface="Century Gothic"/>
              </a:rPr>
              <a:t> (obiettivi, contenuti, metodologie e traguardi delle competenze); didattica modulare, didattica breve, didattica digitale integrata, flipped room</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79200" y="-360"/>
            <a:ext cx="8985600" cy="11494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Funzioni formative interdipendenti della musica a scuola </a:t>
            </a:r>
            <a:endParaRPr b="0" lang="en-US" sz="3200" spc="-1" strike="noStrike">
              <a:solidFill>
                <a:srgbClr val="262626"/>
              </a:solidFill>
              <a:latin typeface="Century Gothic"/>
            </a:endParaRPr>
          </a:p>
        </p:txBody>
      </p:sp>
      <p:sp>
        <p:nvSpPr>
          <p:cNvPr id="1221" name=""/>
          <p:cNvSpPr txBox="1"/>
          <p:nvPr/>
        </p:nvSpPr>
        <p:spPr>
          <a:xfrm>
            <a:off x="79200" y="969840"/>
            <a:ext cx="9144000" cy="5888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404040"/>
                </a:solidFill>
                <a:latin typeface="Century Gothic"/>
              </a:rPr>
              <a:t>Funzione cognitivo-culturale</a:t>
            </a:r>
            <a:r>
              <a:rPr b="0" lang="it-IT" sz="2000" spc="-1" strike="noStrike">
                <a:solidFill>
                  <a:srgbClr val="404040"/>
                </a:solidFill>
                <a:latin typeface="Century Gothic"/>
              </a:rPr>
              <a:t>: gli alunni esercitano la capacità di rappresentazione simbolica della realtà, sviluppano un </a:t>
            </a:r>
            <a:r>
              <a:rPr b="1" lang="it-IT" sz="2000" spc="-1" strike="noStrike">
                <a:solidFill>
                  <a:srgbClr val="404040"/>
                </a:solidFill>
                <a:latin typeface="Century Gothic"/>
              </a:rPr>
              <a:t>pensiero flessibile, intuitivo, creativo </a:t>
            </a:r>
            <a:r>
              <a:rPr b="0" lang="it-IT" sz="2000" spc="-1" strike="noStrike">
                <a:solidFill>
                  <a:srgbClr val="404040"/>
                </a:solidFill>
                <a:latin typeface="Century Gothic"/>
              </a:rPr>
              <a:t>e partecipano al patrimonio di diverse culture musicali; utilizzano le </a:t>
            </a:r>
            <a:r>
              <a:rPr b="1" lang="it-IT" sz="2000" spc="-1" strike="noStrike">
                <a:solidFill>
                  <a:srgbClr val="404040"/>
                </a:solidFill>
                <a:latin typeface="Century Gothic"/>
              </a:rPr>
              <a:t>competenze</a:t>
            </a:r>
            <a:r>
              <a:rPr b="0" lang="it-IT" sz="2000" spc="-1" strike="noStrike">
                <a:solidFill>
                  <a:srgbClr val="404040"/>
                </a:solidFill>
                <a:latin typeface="Century Gothic"/>
              </a:rPr>
              <a:t> specifiche della disciplina per cogliere significati, mentalità, modi di vita e valori della comunità a cui fanno riferimento. </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r>
              <a:rPr b="1" lang="it-IT" sz="2000" spc="-1" strike="noStrike">
                <a:solidFill>
                  <a:srgbClr val="404040"/>
                </a:solidFill>
                <a:latin typeface="Century Gothic"/>
              </a:rPr>
              <a:t>Funzione linguistico-comunicativa</a:t>
            </a:r>
            <a:r>
              <a:rPr b="0" lang="it-IT" sz="2000" spc="-1" strike="noStrike">
                <a:solidFill>
                  <a:srgbClr val="404040"/>
                </a:solidFill>
                <a:latin typeface="Century Gothic"/>
              </a:rPr>
              <a:t>: gli alunni vengono educati </a:t>
            </a:r>
            <a:r>
              <a:rPr b="1" lang="it-IT" sz="2000" spc="-1" strike="noStrike">
                <a:solidFill>
                  <a:srgbClr val="404040"/>
                </a:solidFill>
                <a:latin typeface="Century Gothic"/>
              </a:rPr>
              <a:t>all’espressione e alla comunicazione</a:t>
            </a:r>
            <a:r>
              <a:rPr b="0" lang="it-IT" sz="2000" spc="-1" strike="noStrike">
                <a:solidFill>
                  <a:srgbClr val="404040"/>
                </a:solidFill>
                <a:latin typeface="Century Gothic"/>
              </a:rPr>
              <a:t> attraverso </a:t>
            </a:r>
            <a:r>
              <a:rPr b="1" lang="it-IT" sz="2000" spc="-1" strike="noStrike">
                <a:solidFill>
                  <a:srgbClr val="404040"/>
                </a:solidFill>
                <a:latin typeface="Century Gothic"/>
              </a:rPr>
              <a:t>strumenti</a:t>
            </a:r>
            <a:r>
              <a:rPr b="0" lang="it-IT" sz="2000" spc="-1" strike="noStrike">
                <a:solidFill>
                  <a:srgbClr val="404040"/>
                </a:solidFill>
                <a:latin typeface="Century Gothic"/>
              </a:rPr>
              <a:t> e </a:t>
            </a:r>
            <a:r>
              <a:rPr b="1" lang="it-IT" sz="2000" spc="-1" strike="noStrike">
                <a:solidFill>
                  <a:srgbClr val="404040"/>
                </a:solidFill>
                <a:latin typeface="Century Gothic"/>
              </a:rPr>
              <a:t>tecniche</a:t>
            </a:r>
            <a:r>
              <a:rPr b="0" lang="it-IT" sz="2000" spc="-1" strike="noStrike">
                <a:solidFill>
                  <a:srgbClr val="404040"/>
                </a:solidFill>
                <a:latin typeface="Century Gothic"/>
              </a:rPr>
              <a:t> specifiche del linguaggio musica.</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r>
              <a:rPr b="1" lang="it-IT" sz="2000" spc="-1" strike="noStrike">
                <a:solidFill>
                  <a:srgbClr val="404040"/>
                </a:solidFill>
                <a:latin typeface="Century Gothic"/>
              </a:rPr>
              <a:t>Funzione emotivo-affettiva</a:t>
            </a:r>
            <a:r>
              <a:rPr b="0" lang="it-IT" sz="2000" spc="-1" strike="noStrike">
                <a:solidFill>
                  <a:srgbClr val="404040"/>
                </a:solidFill>
                <a:latin typeface="Century Gothic"/>
              </a:rPr>
              <a:t>: gli alunni, nel rapporto con l’opera d’arte, sviluppano la riflessione sulla </a:t>
            </a:r>
            <a:r>
              <a:rPr b="1" lang="it-IT" sz="2000" spc="-1" strike="noStrike">
                <a:solidFill>
                  <a:srgbClr val="404040"/>
                </a:solidFill>
                <a:latin typeface="Century Gothic"/>
              </a:rPr>
              <a:t>formalizzazione simbolica delle emozioni</a:t>
            </a:r>
            <a:r>
              <a:rPr b="0" lang="it-IT" sz="2000" spc="-1" strike="noStrike">
                <a:solidFill>
                  <a:srgbClr val="404040"/>
                </a:solidFill>
                <a:latin typeface="Century Gothic"/>
              </a:rPr>
              <a:t>. </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692280" y="1193760"/>
            <a:ext cx="7842240" cy="47181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unzione identitaria e interculturale</a:t>
            </a:r>
            <a:r>
              <a:rPr b="0" lang="it-IT" sz="1800" spc="-1" strike="noStrike">
                <a:solidFill>
                  <a:srgbClr val="404040"/>
                </a:solidFill>
                <a:latin typeface="Century Gothic"/>
              </a:rPr>
              <a:t>: gli alunni prendono coscienza della loro appartenenza a una tradizione culturale e acquisiscono strumenti per la conoscenza, il confronto e il </a:t>
            </a:r>
            <a:r>
              <a:rPr b="1" lang="it-IT" sz="1800" spc="-1" strike="noStrike">
                <a:solidFill>
                  <a:srgbClr val="404040"/>
                </a:solidFill>
                <a:latin typeface="Century Gothic"/>
              </a:rPr>
              <a:t>rispetto di altre tradizioni culturali e religiose</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unzione relazionale</a:t>
            </a:r>
            <a:r>
              <a:rPr b="0" lang="it-IT" sz="1800" spc="-1" strike="noStrike">
                <a:solidFill>
                  <a:srgbClr val="404040"/>
                </a:solidFill>
                <a:latin typeface="Century Gothic"/>
              </a:rPr>
              <a:t>: gli alunni </a:t>
            </a:r>
            <a:r>
              <a:rPr b="1" lang="it-IT" sz="1800" spc="-1" strike="noStrike">
                <a:solidFill>
                  <a:srgbClr val="404040"/>
                </a:solidFill>
                <a:latin typeface="Century Gothic"/>
              </a:rPr>
              <a:t>instaurano relazioni interpersonali e di gruppo</a:t>
            </a:r>
            <a:r>
              <a:rPr b="0" lang="it-IT" sz="1800" spc="-1" strike="noStrike">
                <a:solidFill>
                  <a:srgbClr val="404040"/>
                </a:solidFill>
                <a:latin typeface="Century Gothic"/>
              </a:rPr>
              <a:t>, fondate su pratiche musicali compartecipate e sull’ascolto condiviso.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unzione critico-estetica</a:t>
            </a:r>
            <a:r>
              <a:rPr b="0" lang="it-IT" sz="1800" spc="-1" strike="noStrike">
                <a:solidFill>
                  <a:srgbClr val="404040"/>
                </a:solidFill>
                <a:latin typeface="Century Gothic"/>
              </a:rPr>
              <a:t>: gli alunni sviluppano </a:t>
            </a:r>
            <a:r>
              <a:rPr b="1" lang="it-IT" sz="1800" spc="-1" strike="noStrike">
                <a:solidFill>
                  <a:srgbClr val="404040"/>
                </a:solidFill>
                <a:latin typeface="Century Gothic"/>
              </a:rPr>
              <a:t>sensibilità artistica </a:t>
            </a:r>
            <a:r>
              <a:rPr b="0" lang="it-IT" sz="1800" spc="-1" strike="noStrike">
                <a:solidFill>
                  <a:srgbClr val="404040"/>
                </a:solidFill>
                <a:latin typeface="Century Gothic"/>
              </a:rPr>
              <a:t>basata sull’interpretazione sia di </a:t>
            </a:r>
            <a:r>
              <a:rPr b="1" lang="it-IT" sz="1800" spc="-1" strike="noStrike">
                <a:solidFill>
                  <a:srgbClr val="404040"/>
                </a:solidFill>
                <a:latin typeface="Century Gothic"/>
              </a:rPr>
              <a:t>messaggi sonori </a:t>
            </a:r>
            <a:r>
              <a:rPr b="0" lang="it-IT" sz="1800" spc="-1" strike="noStrike">
                <a:solidFill>
                  <a:srgbClr val="404040"/>
                </a:solidFill>
                <a:latin typeface="Century Gothic"/>
              </a:rPr>
              <a:t>sia di </a:t>
            </a:r>
            <a:r>
              <a:rPr b="1" lang="it-IT" sz="1800" spc="-1" strike="noStrike">
                <a:solidFill>
                  <a:srgbClr val="404040"/>
                </a:solidFill>
                <a:latin typeface="Century Gothic"/>
              </a:rPr>
              <a:t>opere d’arte</a:t>
            </a:r>
            <a:r>
              <a:rPr b="0" lang="it-IT" sz="1800" spc="-1" strike="noStrike">
                <a:solidFill>
                  <a:srgbClr val="404040"/>
                </a:solidFill>
                <a:latin typeface="Century Gothic"/>
              </a:rPr>
              <a:t>, elevano la loro autonomia di giudizio e di fruizione estetica                                                                         del patrimonio cultural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334800" y="-360"/>
            <a:ext cx="8676000" cy="10033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262626"/>
                </a:solidFill>
                <a:latin typeface="Century Gothic"/>
              </a:rPr>
              <a:t>OBIETTIVI per le competenze didattico metodologiche (allegato A Programmi concorso) </a:t>
            </a:r>
            <a:br>
              <a:rPr sz="3200"/>
            </a:br>
            <a:endParaRPr b="0" lang="en-US" sz="2400" spc="-1" strike="noStrike">
              <a:solidFill>
                <a:srgbClr val="262626"/>
              </a:solidFill>
              <a:latin typeface="Century Gothic"/>
            </a:endParaRPr>
          </a:p>
        </p:txBody>
      </p:sp>
      <p:sp>
        <p:nvSpPr>
          <p:cNvPr id="1224" name=""/>
          <p:cNvSpPr txBox="1"/>
          <p:nvPr/>
        </p:nvSpPr>
        <p:spPr>
          <a:xfrm>
            <a:off x="334800" y="1002960"/>
            <a:ext cx="8809200" cy="58546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Century Gothic"/>
              </a:rPr>
              <a:t>Rinforzare </a:t>
            </a:r>
            <a:r>
              <a:rPr b="1" lang="it-IT" sz="1400" spc="-1" strike="noStrike">
                <a:solidFill>
                  <a:srgbClr val="404040"/>
                </a:solidFill>
                <a:latin typeface="Century Gothic"/>
              </a:rPr>
              <a:t>modalità d’insegnamento alternativo </a:t>
            </a:r>
            <a:r>
              <a:rPr b="0" lang="it-IT" sz="1400" spc="-1" strike="noStrike">
                <a:solidFill>
                  <a:srgbClr val="404040"/>
                </a:solidFill>
                <a:latin typeface="Century Gothic"/>
              </a:rPr>
              <a:t>alla tradizione italiana sull’alfabetizzazione musicale per sviluppare capacità cognitive, logiche, ecc.</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Century Gothic"/>
              </a:rPr>
              <a:t>Padroneggiare i fondamenti della </a:t>
            </a:r>
            <a:r>
              <a:rPr b="1" lang="it-IT" sz="1400" spc="-1" strike="noStrike">
                <a:solidFill>
                  <a:srgbClr val="404040"/>
                </a:solidFill>
                <a:latin typeface="Century Gothic"/>
              </a:rPr>
              <a:t>didattica dell’ascolto musicale</a:t>
            </a:r>
            <a:r>
              <a:rPr b="0" lang="it-IT" sz="1400" spc="-1" strike="noStrike">
                <a:solidFill>
                  <a:srgbClr val="404040"/>
                </a:solidFill>
                <a:latin typeface="Century Gothic"/>
              </a:rPr>
              <a:t> per sviluppare la capacità di attenzione si di sé e di ascolto empatico degli altri</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Century Gothic"/>
              </a:rPr>
              <a:t>Veicolare la pratica </a:t>
            </a:r>
            <a:r>
              <a:rPr b="1" lang="it-IT" sz="1400" spc="-1" strike="noStrike">
                <a:solidFill>
                  <a:srgbClr val="404040"/>
                </a:solidFill>
                <a:latin typeface="Century Gothic"/>
              </a:rPr>
              <a:t>dell’analisi e dell’uso degli elementi del linguaggio musicale </a:t>
            </a:r>
            <a:r>
              <a:rPr b="0" lang="it-IT" sz="1400" spc="-1" strike="noStrike">
                <a:solidFill>
                  <a:srgbClr val="404040"/>
                </a:solidFill>
                <a:latin typeface="Century Gothic"/>
              </a:rPr>
              <a:t>(dinamica, timbrica, armonia, ritmica, metrica, agogica, fraseggio) abbinati ai parametri sonori, in brani musicali appartenenti a generi, forme e stili diversi per interfacciare contenuti diversi e comprenderne il senso generale di qualunque linguaggio                                                        </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Progettare la musica d’insieme</a:t>
            </a:r>
            <a:r>
              <a:rPr b="0" lang="it-IT" sz="1400" spc="-1" strike="noStrike">
                <a:solidFill>
                  <a:srgbClr val="404040"/>
                </a:solidFill>
                <a:latin typeface="Century Gothic"/>
              </a:rPr>
              <a:t>: concertazione, direzione di gruppi strumentali, arrangiamento, strumentazione ed elaborazione di repertori diversi per genere, stile, epoca storica, tradizioni musicali, sia in brani solistici sia di gruppo per orientare ad una sana costruzione della propria identità musicale e non e per il proprio progetto di vita</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Elaborare percorsi didattici modulari intrecciati </a:t>
            </a:r>
            <a:r>
              <a:rPr b="0" lang="it-IT" sz="1400" spc="-1" strike="noStrike">
                <a:solidFill>
                  <a:srgbClr val="404040"/>
                </a:solidFill>
                <a:latin typeface="Century Gothic"/>
              </a:rPr>
              <a:t>che colleghino le forme e le esperienze musicali sia con le produzioni artistico-letterarie con i saperi scientifico-tecnologici e con altri codici comunicativi non verbali, integrando, sul piano performativo, la sfera della danza, del teatro, delle arti visive e della multimedialità per un approccio globale e olistico della persona</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Comprendere e contestualizzare in senso storico-critico </a:t>
            </a:r>
            <a:r>
              <a:rPr b="0" lang="it-IT" sz="1400" spc="-1" strike="noStrike">
                <a:solidFill>
                  <a:srgbClr val="404040"/>
                </a:solidFill>
                <a:latin typeface="Century Gothic"/>
              </a:rPr>
              <a:t>opere musicali di tradizione scritta integrando la didattica dell’ascolto con la storia della musica e le esperienze musicali di tradizione orale, jazz, rock, pop, canzone d’autore, ecc. per far acquisire il senso della storia come memoria di sè</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Utilizzare metodologie di base per l’educazione della voce e dell’orecchio</a:t>
            </a:r>
            <a:r>
              <a:rPr b="0" lang="it-IT" sz="1400" spc="-1" strike="noStrike">
                <a:solidFill>
                  <a:srgbClr val="404040"/>
                </a:solidFill>
                <a:latin typeface="Century Gothic"/>
              </a:rPr>
              <a:t> per favorire la miglior espressione di sé nella comunicazione e nelle relazioni con gli altri</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Sviluppare la creatività musicale </a:t>
            </a:r>
            <a:r>
              <a:rPr b="0" lang="it-IT" sz="1400" spc="-1" strike="noStrike">
                <a:solidFill>
                  <a:srgbClr val="404040"/>
                </a:solidFill>
                <a:latin typeface="Century Gothic"/>
              </a:rPr>
              <a:t>attraverso composizione, improvvisazione, ecc. nelle pratiche vocali e strumentali singole e d’insieme per acquisire competenze sulla risoluzione dei problemi</a:t>
            </a:r>
            <a:endParaRPr b="0" lang="en-US" sz="14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 </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1612800" y="0"/>
            <a:ext cx="7531200" cy="1008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	</a:t>
            </a:r>
            <a:r>
              <a:rPr b="1" lang="it-IT" sz="3200" spc="-1" strike="noStrike">
                <a:solidFill>
                  <a:srgbClr val="262626"/>
                </a:solidFill>
                <a:latin typeface="Century Gothic"/>
              </a:rPr>
              <a:t>Procedure concorso straordinario</a:t>
            </a:r>
            <a:endParaRPr b="0" lang="en-US" sz="3200" spc="-1" strike="noStrike">
              <a:solidFill>
                <a:srgbClr val="262626"/>
              </a:solidFill>
              <a:latin typeface="Century Gothic"/>
            </a:endParaRPr>
          </a:p>
        </p:txBody>
      </p:sp>
      <p:sp>
        <p:nvSpPr>
          <p:cNvPr id="1188" name=""/>
          <p:cNvSpPr txBox="1"/>
          <p:nvPr/>
        </p:nvSpPr>
        <p:spPr>
          <a:xfrm>
            <a:off x="512280" y="1007640"/>
            <a:ext cx="8442360" cy="57438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Century Gothic"/>
              </a:rPr>
              <a:t>-</a:t>
            </a:r>
            <a:r>
              <a:rPr b="0" lang="it-IT" sz="2400" spc="-1" strike="noStrike">
                <a:solidFill>
                  <a:srgbClr val="404040"/>
                </a:solidFill>
                <a:latin typeface="Century Gothic"/>
              </a:rPr>
              <a:t> </a:t>
            </a:r>
            <a:r>
              <a:rPr b="1" lang="it-IT" sz="1800" spc="-1" strike="noStrike">
                <a:solidFill>
                  <a:srgbClr val="404040"/>
                </a:solidFill>
                <a:latin typeface="Century Gothic"/>
              </a:rPr>
              <a:t>Procedura straordinaria (per l’immissione in ruolo)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r>
              <a:rPr b="1" lang="it-IT" sz="1800" spc="-1" strike="noStrike">
                <a:solidFill>
                  <a:srgbClr val="404040"/>
                </a:solidFill>
                <a:latin typeface="Century Gothic"/>
              </a:rPr>
              <a:t>Procedura ordinaria</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Century Gothic"/>
              </a:rPr>
              <a:t>La prova scritta, da superare con il punteggio minimo di sette decimi o equivalente e da svolgere con il sistema informatizzato, è distinta per classe di concorso e tipologia di posto. La durata è pari a 150 minuti e prevede, per i posti comuni, </a:t>
            </a:r>
            <a:r>
              <a:rPr b="1" lang="it-IT" sz="1600" spc="-1" strike="noStrike">
                <a:solidFill>
                  <a:srgbClr val="404040"/>
                </a:solidFill>
                <a:latin typeface="Century Gothic"/>
              </a:rPr>
              <a:t>cinque quesiti a risposta aperta (1 ordinario?) volti all’accertamento delle conoscenze e competenze disciplinari e didattico-metodologiche in relazione alle discipline oggetto di insegnamento, </a:t>
            </a:r>
            <a:r>
              <a:rPr b="0" lang="it-IT" sz="1600" spc="-1" strike="noStrike">
                <a:solidFill>
                  <a:srgbClr val="404040"/>
                </a:solidFill>
                <a:latin typeface="Century Gothic"/>
              </a:rPr>
              <a:t>e un quesito - seguito da cinque domande a risposta aperta di comprensione - per la verifica della conoscenza linguistica. Per le classi di concorso di lingua inglese la prova scritta sarà interamente in lingua e prevede sei quesiti a risposta aperta.</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5464080" y="0"/>
            <a:ext cx="3579840" cy="644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VALUTAZIONE:</a:t>
            </a:r>
            <a:endParaRPr b="0" lang="en-US" sz="3600" spc="-1" strike="noStrike">
              <a:solidFill>
                <a:srgbClr val="262626"/>
              </a:solidFill>
              <a:latin typeface="Century Gothic"/>
            </a:endParaRPr>
          </a:p>
        </p:txBody>
      </p:sp>
      <p:sp>
        <p:nvSpPr>
          <p:cNvPr id="1226" name=""/>
          <p:cNvSpPr txBox="1"/>
          <p:nvPr/>
        </p:nvSpPr>
        <p:spPr>
          <a:xfrm>
            <a:off x="100080" y="644400"/>
            <a:ext cx="8943840" cy="6213600"/>
          </a:xfrm>
          <a:prstGeom prst="rect">
            <a:avLst/>
          </a:prstGeom>
          <a:noFill/>
          <a:ln w="0">
            <a:noFill/>
          </a:ln>
        </p:spPr>
        <p:txBody>
          <a:bodyPr anchor="t">
            <a:normAutofit fontScale="88000"/>
          </a:bodyPr>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Sempre in relazione alla situazione di partenza di ciascun alunno, la valutazione è la determinazione del valore di un bene ai fini di un ‘giudizio’; dare valore a qualcosa/qualcuno. Verificare attraverso l’acquisizione di elementi che consentono di capire l’efficacia di un intervento educativo, risultato (outcome) delle risorse e del lavoro svolto, mette in discussione gli effetti dell’intervento, sia quelli positivi che negativi, accompagna i processi di apprendimento e stimola al miglioramento continuo del docente e dell’alunni.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Perché si valuta: </a:t>
            </a:r>
            <a:r>
              <a:rPr b="0" lang="it-IT" sz="1800" spc="-1" strike="noStrike">
                <a:solidFill>
                  <a:srgbClr val="000000"/>
                </a:solidFill>
                <a:latin typeface="Century Gothic"/>
              </a:rPr>
              <a:t>per rilevare il p</a:t>
            </a:r>
            <a:r>
              <a:rPr b="0" lang="it-IT" sz="1800" spc="-1" strike="noStrike">
                <a:solidFill>
                  <a:srgbClr val="404040"/>
                </a:solidFill>
                <a:latin typeface="Century Gothic"/>
              </a:rPr>
              <a:t>rogresso/evoluzione delle capacità individuali, rilevato attraverso i dati forniti dalle osservazioni sistematiche delle varie discipline.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sa si valuta</a:t>
            </a:r>
            <a:r>
              <a:rPr b="0" lang="it-IT" sz="1800" spc="-1" strike="noStrike">
                <a:solidFill>
                  <a:srgbClr val="404040"/>
                </a:solidFill>
                <a:latin typeface="Century Gothic"/>
              </a:rPr>
              <a:t>: apprendimento, progressi  cognitivi ed educativi, comportamento, maturazione della personalità, evoluzione delle attitudini,  acquisizione delle competenze.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e si valuta:</a:t>
            </a:r>
            <a:r>
              <a:rPr b="0" lang="it-IT" sz="1800" spc="-1" strike="noStrike">
                <a:solidFill>
                  <a:srgbClr val="404040"/>
                </a:solidFill>
                <a:latin typeface="Century Gothic"/>
              </a:rPr>
              <a:t> la valutazione finale tiene presenti i criteri stabiliti e il livello di partenza, l’impegno personale, capacità, interessi, attitudini. </a:t>
            </a:r>
            <a:endParaRPr b="0" lang="en-US" sz="1800" spc="-1" strike="noStrike">
              <a:solidFill>
                <a:srgbClr val="404040"/>
              </a:solidFill>
              <a:latin typeface="Century Gothic"/>
            </a:endParaRPr>
          </a:p>
          <a:p>
            <a:pPr marL="301680" indent="-3016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Criteri di valutazione</a:t>
            </a:r>
            <a:r>
              <a:rPr b="0" lang="it-IT" sz="1800" spc="-1" strike="noStrike">
                <a:solidFill>
                  <a:srgbClr val="404040"/>
                </a:solidFill>
                <a:latin typeface="Century Gothic"/>
              </a:rPr>
              <a:t> - </a:t>
            </a:r>
            <a:r>
              <a:rPr b="1" lang="it-IT" sz="1800" spc="-1" strike="noStrike">
                <a:solidFill>
                  <a:srgbClr val="404040"/>
                </a:solidFill>
                <a:latin typeface="Century Gothic"/>
              </a:rPr>
              <a:t>Continuità</a:t>
            </a:r>
            <a:r>
              <a:rPr b="0" lang="it-IT" sz="1800" spc="-1" strike="noStrike">
                <a:solidFill>
                  <a:srgbClr val="404040"/>
                </a:solidFill>
                <a:latin typeface="Century Gothic"/>
              </a:rPr>
              <a:t>: tutti i momenti della vita scolastica sono soggetti a valutazione; </a:t>
            </a:r>
            <a:r>
              <a:rPr b="1" lang="it-IT" sz="1800" spc="-1" strike="noStrike">
                <a:solidFill>
                  <a:srgbClr val="404040"/>
                </a:solidFill>
                <a:latin typeface="Century Gothic"/>
              </a:rPr>
              <a:t>Ricorrenza</a:t>
            </a:r>
            <a:r>
              <a:rPr b="0" lang="it-IT" sz="1800" spc="-1" strike="noStrike">
                <a:solidFill>
                  <a:srgbClr val="404040"/>
                </a:solidFill>
                <a:latin typeface="Century Gothic"/>
              </a:rPr>
              <a:t>: verifiche proposte al termine di un’unità di lavoro e riconsegnate in tempo didatticamente utile; </a:t>
            </a:r>
            <a:r>
              <a:rPr b="1" lang="it-IT" sz="1800" spc="-1" strike="noStrike">
                <a:solidFill>
                  <a:srgbClr val="404040"/>
                </a:solidFill>
                <a:latin typeface="Century Gothic"/>
              </a:rPr>
              <a:t>Coerenza</a:t>
            </a:r>
            <a:r>
              <a:rPr b="0" lang="it-IT" sz="1800" spc="-1" strike="noStrike">
                <a:solidFill>
                  <a:srgbClr val="404040"/>
                </a:solidFill>
                <a:latin typeface="Century Gothic"/>
              </a:rPr>
              <a:t>: scelta e organizzazione degli strumenti di verifica sono coerenti con i criteri di valutazione, gli obiettivi programmati, l’itinerario di lavoro percorso.  </a:t>
            </a:r>
            <a:r>
              <a:rPr b="1" lang="it-IT" sz="1800" spc="-1" strike="noStrike">
                <a:solidFill>
                  <a:srgbClr val="404040"/>
                </a:solidFill>
                <a:latin typeface="Century Gothic"/>
              </a:rPr>
              <a:t>Diversificazione</a:t>
            </a:r>
            <a:r>
              <a:rPr b="0" lang="it-IT" sz="1800" spc="-1" strike="noStrike">
                <a:solidFill>
                  <a:srgbClr val="404040"/>
                </a:solidFill>
                <a:latin typeface="Century Gothic"/>
              </a:rPr>
              <a:t>: la valutazione utilizza strumenti diversificati e molteplici situazioni di osservazione e di verifica.  </a:t>
            </a:r>
            <a:r>
              <a:rPr b="1" lang="it-IT" sz="1800" spc="-1" strike="noStrike">
                <a:solidFill>
                  <a:srgbClr val="404040"/>
                </a:solidFill>
                <a:latin typeface="Century Gothic"/>
              </a:rPr>
              <a:t>Comprensibilità</a:t>
            </a:r>
            <a:r>
              <a:rPr b="0" lang="it-IT" sz="1800" spc="-1" strike="noStrike">
                <a:solidFill>
                  <a:srgbClr val="404040"/>
                </a:solidFill>
                <a:latin typeface="Century Gothic"/>
              </a:rPr>
              <a:t>: la valutazione, come linguaggio, è comprensibile per i destinatari (alunni e genitori).  </a:t>
            </a:r>
            <a:r>
              <a:rPr b="1" lang="it-IT" sz="1800" spc="-1" strike="noStrike">
                <a:solidFill>
                  <a:srgbClr val="404040"/>
                </a:solidFill>
                <a:latin typeface="Century Gothic"/>
              </a:rPr>
              <a:t>Efficacia</a:t>
            </a:r>
            <a:r>
              <a:rPr b="0" lang="it-IT" sz="1800" spc="-1" strike="noStrike">
                <a:solidFill>
                  <a:srgbClr val="404040"/>
                </a:solidFill>
                <a:latin typeface="Century Gothic"/>
              </a:rPr>
              <a:t>: deve aiutare l’allievo ad individuare le proprie attitudini/capacità e a migliorare il processo di apprendimento, anche in prospettiva di scelte future. </a:t>
            </a: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301680" indent="-3016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1144080" y="0"/>
            <a:ext cx="7999560" cy="10699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Strumenti di rilevamento dei progressi</a:t>
            </a:r>
            <a:endParaRPr b="0" lang="en-US" sz="3600" spc="-1" strike="noStrike">
              <a:solidFill>
                <a:srgbClr val="262626"/>
              </a:solidFill>
              <a:latin typeface="Century Gothic"/>
            </a:endParaRPr>
          </a:p>
        </p:txBody>
      </p:sp>
      <p:sp>
        <p:nvSpPr>
          <p:cNvPr id="1228" name=""/>
          <p:cNvSpPr txBox="1"/>
          <p:nvPr/>
        </p:nvSpPr>
        <p:spPr>
          <a:xfrm>
            <a:off x="122400" y="1269720"/>
            <a:ext cx="8891280" cy="3776760"/>
          </a:xfrm>
          <a:prstGeom prst="rect">
            <a:avLst/>
          </a:prstGeom>
          <a:noFill/>
          <a:ln w="0">
            <a:noFill/>
          </a:ln>
        </p:spPr>
        <p:txBody>
          <a:bodyPr anchor="t">
            <a:normAutofit fontScale="79000"/>
          </a:bodyPr>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I progressi nell'apprendimento vengono rilevati attraverso diversi tipi di verifica, di attività e di osservazione</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270720" indent="-27072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Verifica iniziale: </a:t>
            </a:r>
            <a:r>
              <a:rPr b="0" lang="it-IT" sz="1800" spc="-1" strike="noStrike">
                <a:solidFill>
                  <a:srgbClr val="404040"/>
                </a:solidFill>
                <a:latin typeface="Century Gothic"/>
              </a:rPr>
              <a:t>atto a calibrare la didattica sull’effettiva preparazione acquisita nella scuola primaria/secondaria, o nel passaggio da una classe all’altra e sarà condotto con l’osservazione diretta e con test d’ingresso scritti, pratici, orali creati per classi parallele.  </a:t>
            </a:r>
            <a:endParaRPr b="0" lang="en-US" sz="1800" spc="-1" strike="noStrike">
              <a:solidFill>
                <a:srgbClr val="404040"/>
              </a:solidFill>
              <a:latin typeface="Century Gothic"/>
            </a:endParaRPr>
          </a:p>
          <a:p>
            <a:pPr marL="270720" indent="-27072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Verifica formativa</a:t>
            </a:r>
            <a:r>
              <a:rPr b="0" lang="it-IT" sz="1800" spc="-1" strike="noStrike">
                <a:solidFill>
                  <a:srgbClr val="404040"/>
                </a:solidFill>
                <a:latin typeface="Century Gothic"/>
              </a:rPr>
              <a:t>: accompagnerà l’iter didattico annuale e sarà centrata </a:t>
            </a:r>
            <a:r>
              <a:rPr b="1" lang="it-IT" sz="1800" spc="-1" strike="noStrike">
                <a:solidFill>
                  <a:srgbClr val="404040"/>
                </a:solidFill>
                <a:latin typeface="Century Gothic"/>
              </a:rPr>
              <a:t>sull’osservazione del lavoro quotidiano (sistematica) </a:t>
            </a:r>
            <a:r>
              <a:rPr b="0" lang="it-IT" sz="1800" spc="-1" strike="noStrike">
                <a:solidFill>
                  <a:srgbClr val="404040"/>
                </a:solidFill>
                <a:latin typeface="Century Gothic"/>
              </a:rPr>
              <a:t>tramite test scritti e orali; strumento precipuo per una programmazione flessibile, a misura del ragazzo.  </a:t>
            </a:r>
            <a:endParaRPr b="0" lang="en-US" sz="1800" spc="-1" strike="noStrike">
              <a:solidFill>
                <a:srgbClr val="404040"/>
              </a:solidFill>
              <a:latin typeface="Century Gothic"/>
            </a:endParaRPr>
          </a:p>
          <a:p>
            <a:pPr marL="270720" indent="-27072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Verifiche sommative (I e II quadrimestre): </a:t>
            </a:r>
            <a:r>
              <a:rPr b="0" lang="it-IT" sz="1800" spc="-1" strike="noStrike">
                <a:solidFill>
                  <a:srgbClr val="404040"/>
                </a:solidFill>
                <a:latin typeface="Century Gothic"/>
              </a:rPr>
              <a:t>indicano il cammino di crescita svolto dagli alunni durante l’anno scolastico e misurano le abilità e le competenze man mano conseguite e proposte per classi parallele.  Osservazione sistematica in classe, nei gruppi, nell'esecuzione dei lavori proposti  Interrogazioni orali formali ed informali (partecipazione alle lezioni dialogate, domande guidate, attività ecc.). </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La valutazione finale terrà conto non solo dei risultati delle verifiche, ma anche del livello di partenza e dell’impegno mostrato. </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txBox="1"/>
          <p:nvPr/>
        </p:nvSpPr>
        <p:spPr>
          <a:xfrm>
            <a:off x="274320" y="2628720"/>
            <a:ext cx="8869320" cy="160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PETENZA</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insieme di conoscenze e abilita’ di tipo cognitivo, disciplinare, interdisciplinare, intradisciplinare, transdisciplinare. coinvolgimento di ambiti personale, sociale, relazionale per svolgere un’attivita’ e risolvere problemi; “combinazione di conoscenze, attitudini appropriate al contesto”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0" name="CasellaDiTesto 1"/>
          <p:cNvSpPr/>
          <p:nvPr/>
        </p:nvSpPr>
        <p:spPr>
          <a:xfrm>
            <a:off x="981000" y="468360"/>
            <a:ext cx="8059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alibri"/>
              </a:rPr>
              <a:t>PROFILO DELLE COMPETENZE AL TERMINE DEL I CICLO DI ISTRUZIONE: DAGLI OBIETTIVI ALLE COMPETENZE DISCIPLINARI E TRASVERSALI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195800" y="-360"/>
            <a:ext cx="4835520" cy="11444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COMPETENZE CHIAVE</a:t>
            </a:r>
            <a:endParaRPr b="0" lang="en-US" sz="3200" spc="-1" strike="noStrike">
              <a:solidFill>
                <a:srgbClr val="262626"/>
              </a:solidFill>
              <a:latin typeface="Century Gothic"/>
            </a:endParaRPr>
          </a:p>
        </p:txBody>
      </p:sp>
      <p:sp>
        <p:nvSpPr>
          <p:cNvPr id="1232" name=""/>
          <p:cNvSpPr txBox="1"/>
          <p:nvPr/>
        </p:nvSpPr>
        <p:spPr>
          <a:xfrm>
            <a:off x="334440" y="1117440"/>
            <a:ext cx="8696520" cy="57405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Il sistema scolastico italiano assume come orizzonte di riferimento verso cui tendere il quadro delle </a:t>
            </a:r>
            <a:r>
              <a:rPr b="1" lang="it-IT" sz="1800" spc="-1" strike="noStrike">
                <a:solidFill>
                  <a:srgbClr val="404040"/>
                </a:solidFill>
                <a:latin typeface="Century Gothic"/>
              </a:rPr>
              <a:t>competenze-chiave</a:t>
            </a:r>
            <a:r>
              <a:rPr b="0" lang="it-IT" sz="1800" spc="-1" strike="noStrike">
                <a:solidFill>
                  <a:srgbClr val="404040"/>
                </a:solidFill>
                <a:latin typeface="Century Gothic"/>
              </a:rPr>
              <a:t> per l’apprendimento permanente definite dal Parlamento europeo e dal Consiglio dell’Unione europea (Raccomandazione del 18 dicembre 2006 e agenda Onu 2030) che sono: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 comunicazione nella madrelingua;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 comunicazione nelle lingue stranier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 competenza matematica e competenze di base in scienza e tecnologia;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4) competenza digital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5) imparare a imparar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6) competenze sociali e civich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7) spirito di iniziativa e imprenditorialità;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8) consapevolezza ed espressione culturale .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Indicatori di competenza</a:t>
            </a:r>
            <a:endParaRPr b="0" lang="en-US" sz="1800" spc="-1" strike="noStrike">
              <a:solidFill>
                <a:srgbClr val="404040"/>
              </a:solidFill>
              <a:latin typeface="Century Gothic"/>
            </a:endParaRPr>
          </a:p>
        </p:txBody>
      </p:sp>
      <p:pic>
        <p:nvPicPr>
          <p:cNvPr id="1234" name="Immagine 4" descr=""/>
          <p:cNvPicPr/>
          <p:nvPr/>
        </p:nvPicPr>
        <p:blipFill>
          <a:blip r:embed="rId1"/>
          <a:stretch/>
        </p:blipFill>
        <p:spPr>
          <a:xfrm>
            <a:off x="609480" y="1384200"/>
            <a:ext cx="8164800" cy="4727520"/>
          </a:xfrm>
          <a:prstGeom prst="rect">
            <a:avLst/>
          </a:prstGeom>
          <a:ln w="0">
            <a:noFill/>
          </a:ln>
        </p:spPr>
      </p:pic>
      <p:sp>
        <p:nvSpPr>
          <p:cNvPr id="1235" name="CasellaDiTesto 1"/>
          <p:cNvSpPr/>
          <p:nvPr/>
        </p:nvSpPr>
        <p:spPr>
          <a:xfrm>
            <a:off x="2219400" y="0"/>
            <a:ext cx="692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entury Gothic"/>
              </a:rPr>
              <a:t>Educazione trasversale (affettiva, relazionale, sociale) alla didattica musicale e strumental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5304960" y="598320"/>
            <a:ext cx="3210120" cy="109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1</a:t>
            </a:r>
            <a:endParaRPr b="0" lang="en-US" sz="3600" spc="-1" strike="noStrike">
              <a:solidFill>
                <a:srgbClr val="262626"/>
              </a:solidFill>
              <a:latin typeface="Century Gothic"/>
            </a:endParaRPr>
          </a:p>
        </p:txBody>
      </p:sp>
      <p:sp>
        <p:nvSpPr>
          <p:cNvPr id="1237" name=""/>
          <p:cNvSpPr txBox="1"/>
          <p:nvPr/>
        </p:nvSpPr>
        <p:spPr>
          <a:xfrm>
            <a:off x="406080" y="1825200"/>
            <a:ext cx="8443800" cy="469764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1. Quale tra queste è una Finalità della disciplina Musica alla scuola secondaria di I grado?</a:t>
            </a:r>
            <a:endParaRPr b="0" lang="en-US" sz="17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a Prevenire il disagio e promuovere il successo scolastico aiutando gli studenti a prepararsi al futuro esprimendosi con le diverse articolazioni del linguaggio musicale </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b Eseguire e comprendere all’ascolto brani strumentali e vocali appartenenti a generi e culture differenti, della tradizione e classici</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c Integrare le pratiche musicali con altri saperi disciplinari umanistici e scientifici</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d Ricercare talenti musicali per orientarli alla carriera artistica di esecutori strumentali</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363920" y="78840"/>
            <a:ext cx="4780080" cy="10702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2</a:t>
            </a:r>
            <a:endParaRPr b="0" lang="en-US" sz="3600" spc="-1" strike="noStrike">
              <a:solidFill>
                <a:srgbClr val="262626"/>
              </a:solidFill>
              <a:latin typeface="Century Gothic"/>
            </a:endParaRPr>
          </a:p>
        </p:txBody>
      </p:sp>
      <p:sp>
        <p:nvSpPr>
          <p:cNvPr id="1239" name=""/>
          <p:cNvSpPr txBox="1"/>
          <p:nvPr/>
        </p:nvSpPr>
        <p:spPr>
          <a:xfrm>
            <a:off x="468000" y="1404720"/>
            <a:ext cx="8675640" cy="50958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2. Indicare quale tra queste rappresenta una competenza musicale alla scuola media e all’indirizzo musica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a Inventare un brano musicale di tipo ritmico-melodico</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b Acquisire capacità cognitive musicali attraverso la storia della musica</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c Imparare ad imparare la musica vedendola come strumento per crescere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d Usa diversi sistemi di notazione funzionali alla lettura, all’analisi e alla esecuzione di brani musicali.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2075040" y="-360"/>
            <a:ext cx="706896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3</a:t>
            </a:r>
            <a:endParaRPr b="0" lang="en-US" sz="3600" spc="-1" strike="noStrike">
              <a:solidFill>
                <a:srgbClr val="262626"/>
              </a:solidFill>
              <a:latin typeface="Century Gothic"/>
            </a:endParaRPr>
          </a:p>
        </p:txBody>
      </p:sp>
      <p:sp>
        <p:nvSpPr>
          <p:cNvPr id="1241" name=""/>
          <p:cNvSpPr txBox="1"/>
          <p:nvPr/>
        </p:nvSpPr>
        <p:spPr>
          <a:xfrm>
            <a:off x="367920" y="1280880"/>
            <a:ext cx="8775720" cy="55767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3. Nel decreto n. 201 del 6/8/1999 per la scuola ad indirizzo musicale cosa si intende con l’espressione “la musica viene in tal modo liberata da quell'aspetto di separatezza che l'ha spesso penalizzata”?</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a Rendere esplicita la dimensione sociale e culturale dell'evento musicale.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b Sganciarla dallo stereotipo del ricercare talenti musicali</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c Recuperare il ruolo di disciplina seria al pari delle altre discipline scolastich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d Assegnare alla musica un ruolo culturale</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txBox="1"/>
          <p:nvPr/>
        </p:nvSpPr>
        <p:spPr>
          <a:xfrm>
            <a:off x="1058400" y="379080"/>
            <a:ext cx="7520040" cy="5910120"/>
          </a:xfrm>
          <a:prstGeom prst="rect">
            <a:avLst/>
          </a:prstGeom>
          <a:noFill/>
          <a:ln w="0">
            <a:noFill/>
          </a:ln>
        </p:spPr>
        <p:txBody>
          <a:bodyPr anchor="t">
            <a:normAutofit/>
          </a:bodyPr>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Dopo le attività e le pratiche, l’elaborazione dell’Uda:</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gli </a:t>
            </a:r>
            <a:r>
              <a:rPr b="1" lang="it-IT" sz="1500" spc="-1" strike="noStrike">
                <a:solidFill>
                  <a:srgbClr val="404040"/>
                </a:solidFill>
                <a:latin typeface="Century Gothic"/>
              </a:rPr>
              <a:t>obiettivi</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da raggiungere: dividere in parti uguali e diverse un brano, …</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le </a:t>
            </a:r>
            <a:r>
              <a:rPr b="1" lang="it-IT" sz="1500" spc="-1" strike="noStrike">
                <a:solidFill>
                  <a:srgbClr val="404040"/>
                </a:solidFill>
                <a:latin typeface="Century Gothic"/>
              </a:rPr>
              <a:t>competenze</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sa analizzare il brano nella sua forma e confrontarlo con altri simili o diversi; sa eseguire il brano con espressività; </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a:t>
            </a:r>
            <a:r>
              <a:rPr b="1" lang="it-IT" sz="1500" spc="-1" strike="noStrike">
                <a:solidFill>
                  <a:srgbClr val="404040"/>
                </a:solidFill>
                <a:latin typeface="Century Gothic"/>
              </a:rPr>
              <a:t>competenze interdisciplinari</a:t>
            </a:r>
            <a:r>
              <a:rPr b="0" lang="it-IT" sz="1500" spc="-1" strike="noStrike">
                <a:solidFill>
                  <a:srgbClr val="404040"/>
                </a:solidFill>
                <a:latin typeface="Century Gothic"/>
              </a:rPr>
              <a:t>: sa analizzare e dividere il testo di un brano musicale confrontando l’analisi con quella su un testo poetico  </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scegliere le </a:t>
            </a:r>
            <a:r>
              <a:rPr b="1" lang="it-IT" sz="1500" spc="-1" strike="noStrike">
                <a:solidFill>
                  <a:srgbClr val="404040"/>
                </a:solidFill>
                <a:latin typeface="Century Gothic"/>
              </a:rPr>
              <a:t>metodologie da applicare</a:t>
            </a:r>
            <a:r>
              <a:rPr b="0" lang="it-IT" sz="1500" spc="-1" strike="noStrike">
                <a:solidFill>
                  <a:srgbClr val="404040"/>
                </a:solidFill>
                <a:latin typeface="Century Gothic"/>
              </a:rPr>
              <a:t>: lavoro di gruppo, ricerca di brani sul web, didattica digitale integrata, flipped classroom</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utilizzare </a:t>
            </a:r>
            <a:r>
              <a:rPr b="1" lang="it-IT" sz="1500" spc="-1" strike="noStrike">
                <a:solidFill>
                  <a:srgbClr val="404040"/>
                </a:solidFill>
                <a:latin typeface="Century Gothic"/>
              </a:rPr>
              <a:t>mezzi e strumenti tecnologici</a:t>
            </a:r>
            <a:r>
              <a:rPr b="0" lang="it-IT" sz="1500" spc="-1" strike="noStrike">
                <a:solidFill>
                  <a:srgbClr val="404040"/>
                </a:solidFill>
                <a:latin typeface="Century Gothic"/>
              </a:rPr>
              <a:t>: costruire con il programma garage band delle parti ritmiche su cui suonerà sopra la melodia, modificandone il genere e lo stile; presentare ai compagni il lavoro svolto trovando un brano costruito allo stesso modo nella storia della musica  </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prevedere le </a:t>
            </a:r>
            <a:r>
              <a:rPr b="1" lang="it-IT" sz="1500" spc="-1" strike="noStrike">
                <a:solidFill>
                  <a:srgbClr val="404040"/>
                </a:solidFill>
                <a:latin typeface="Century Gothic"/>
              </a:rPr>
              <a:t>verifiche</a:t>
            </a:r>
            <a:r>
              <a:rPr b="0" lang="it-IT" sz="1500" spc="-1" strike="noStrike">
                <a:solidFill>
                  <a:srgbClr val="404040"/>
                </a:solidFill>
                <a:latin typeface="Century Gothic"/>
              </a:rPr>
              <a:t> su altri contenuti musicali o su altre pratiche, la </a:t>
            </a:r>
            <a:r>
              <a:rPr b="1" lang="it-IT" sz="1500" spc="-1" strike="noStrike">
                <a:solidFill>
                  <a:srgbClr val="404040"/>
                </a:solidFill>
                <a:latin typeface="Century Gothic"/>
              </a:rPr>
              <a:t>valutazione </a:t>
            </a:r>
            <a:r>
              <a:rPr b="0" lang="it-IT" sz="1500" spc="-1" strike="noStrike">
                <a:solidFill>
                  <a:srgbClr val="404040"/>
                </a:solidFill>
                <a:latin typeface="Century Gothic"/>
              </a:rPr>
              <a:t>e i criteri legati ad essa</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014360" y="112320"/>
            <a:ext cx="5046840" cy="10098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2626"/>
                </a:solidFill>
                <a:latin typeface="Century Gothic"/>
              </a:rPr>
              <a:t>Quesito 2 </a:t>
            </a:r>
            <a:br>
              <a:rPr sz="3200"/>
            </a:br>
            <a:r>
              <a:rPr b="0" lang="it-IT" sz="3200" spc="-1" strike="noStrike">
                <a:solidFill>
                  <a:srgbClr val="262626"/>
                </a:solidFill>
                <a:latin typeface="Century Gothic"/>
              </a:rPr>
              <a:t>a risposta aperta</a:t>
            </a:r>
            <a:endParaRPr b="0" lang="en-US" sz="3200" spc="-1" strike="noStrike">
              <a:solidFill>
                <a:srgbClr val="262626"/>
              </a:solidFill>
              <a:latin typeface="Century Gothic"/>
            </a:endParaRPr>
          </a:p>
        </p:txBody>
      </p:sp>
      <p:sp>
        <p:nvSpPr>
          <p:cNvPr id="1244" name=""/>
          <p:cNvSpPr txBox="1"/>
          <p:nvPr/>
        </p:nvSpPr>
        <p:spPr>
          <a:xfrm>
            <a:off x="412560" y="1523520"/>
            <a:ext cx="8886600" cy="50324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404040"/>
                </a:solidFill>
                <a:latin typeface="Century Gothic"/>
              </a:rPr>
              <a:t>Il/la candidato/a illustri come imposterebbe in una terza media le attività di produzione/esecuzione strumentale o vocale di un brano per gruppo classe. Si proceda partendo da una o più competenze disciplinari e intradisciplinari, tenendo conto della seguente dimensione della musica a scuola:</a:t>
            </a:r>
            <a:endParaRPr b="0" lang="en-US" sz="2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404040"/>
                </a:solidFill>
                <a:latin typeface="Century Gothic"/>
              </a:rPr>
              <a:t> </a:t>
            </a:r>
            <a:r>
              <a:rPr b="0" lang="it-IT" sz="2400" spc="-1" strike="noStrike">
                <a:solidFill>
                  <a:srgbClr val="404040"/>
                </a:solidFill>
                <a:latin typeface="Century Gothic"/>
              </a:rPr>
              <a:t>«a) produzione, mediante l’azione diretta (esplorativa, compositiva, esecutiva, </a:t>
            </a:r>
            <a:r>
              <a:rPr b="0" i="1" lang="it-IT" sz="2400" spc="-1" strike="noStrike">
                <a:solidFill>
                  <a:srgbClr val="404040"/>
                </a:solidFill>
                <a:latin typeface="Century Gothic"/>
              </a:rPr>
              <a:t>improvvisativa (n.d.a. non è presente questa pratica</a:t>
            </a:r>
            <a:r>
              <a:rPr b="0" lang="it-IT" sz="2400" spc="-1" strike="noStrike">
                <a:solidFill>
                  <a:srgbClr val="404040"/>
                </a:solidFill>
                <a:latin typeface="Century Gothic"/>
              </a:rPr>
              <a:t>) con e sui materiali sonori, in particolare attraverso l’attività corale e di musica d’insieme»</a:t>
            </a:r>
            <a:endParaRPr b="0" lang="en-US" sz="2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vedasi attività, pratiche ecc. quesito n. 1)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460520" y="-1800"/>
            <a:ext cx="7580160" cy="803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entury Gothic"/>
              </a:rPr>
              <a:t>Documenti Miur di riferimento: </a:t>
            </a:r>
            <a:endParaRPr b="0" lang="en-US" sz="3600" spc="-1" strike="noStrike">
              <a:solidFill>
                <a:srgbClr val="262626"/>
              </a:solidFill>
              <a:latin typeface="Century Gothic"/>
            </a:endParaRPr>
          </a:p>
        </p:txBody>
      </p:sp>
      <p:sp>
        <p:nvSpPr>
          <p:cNvPr id="1190" name=""/>
          <p:cNvSpPr txBox="1"/>
          <p:nvPr/>
        </p:nvSpPr>
        <p:spPr>
          <a:xfrm>
            <a:off x="236160" y="668160"/>
            <a:ext cx="8907480" cy="618984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Indicazioni nazionali </a:t>
            </a:r>
            <a:r>
              <a:rPr b="0" lang="it-IT" sz="1700" spc="-1" strike="noStrike">
                <a:solidFill>
                  <a:srgbClr val="404040"/>
                </a:solidFill>
                <a:latin typeface="Century Gothic"/>
              </a:rPr>
              <a:t>2012 (e del 2007) I ciclo di istruzione (Sec. I grado)</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www.indicazioninazionali.it/wp-content/uploads/2018/08/decreto-ministeriale-254-del-16-novembre-2012-indicazioni-nazionali-curricolo-scuola-infanzia-e-primo-ciclo.pdf pag. 60 - 61</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Indicazioni nazionali 2018 http://www.indicazioninazionali.it/wp-content/uploads/2018/08/Indicazioni-nazionali-e-nuovi-scenari.pdf p.14 – 16 - </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Decreto Indirizzo Musicale</a:t>
            </a:r>
            <a:r>
              <a:rPr b="0" lang="it-IT" sz="1700" spc="-1" strike="noStrike">
                <a:solidFill>
                  <a:srgbClr val="404040"/>
                </a:solidFill>
                <a:latin typeface="Century Gothic"/>
              </a:rPr>
              <a:t> n. 201 - 6/8/1999</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3.flcgil.stgy.it/files/pdf/20110112/decreto-ministeriale-201-del-6-agosto-1999-corsi-ad-indirizzo-musicale-nella-scuola-media.pdf pag. 4 e seguenti</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Decreto min. 211 del  7/10/2010 </a:t>
            </a:r>
            <a:r>
              <a:rPr b="0" lang="it-IT" sz="1700" spc="-1" strike="noStrike">
                <a:solidFill>
                  <a:srgbClr val="404040"/>
                </a:solidFill>
                <a:latin typeface="Century Gothic"/>
              </a:rPr>
              <a:t>– Licei musicali e coreutici:</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s://www.miur.gov.it/licei-musicali-e-coreutici</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Decreto Ministeriale 9 febbraio 1979 (in SO alla GU 20 febbraio 1979, n. </a:t>
            </a:r>
            <a:r>
              <a:rPr b="0" lang="it-IT" sz="1700" spc="-1" strike="noStrike">
                <a:solidFill>
                  <a:srgbClr val="404040"/>
                </a:solidFill>
                <a:latin typeface="Century Gothic"/>
              </a:rPr>
              <a:t>50) - Programmi, orari di insegnamento e prove di esame per la scuola media statale</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s://www.edscuola.it/archivio/norme/decreti/dm9279.html</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Riforma Moratti 2003:</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s://archivio.pubblica.istruzione.it/riforma/allegati/dl190204.pdf</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3457440" y="79200"/>
            <a:ext cx="5686560" cy="108936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262626"/>
                </a:solidFill>
                <a:latin typeface="Century Gothic"/>
              </a:rPr>
              <a:t>Quesito n. 2</a:t>
            </a:r>
            <a:br>
              <a:rPr sz="2500"/>
            </a:br>
            <a:r>
              <a:rPr b="0" lang="it-IT" sz="2500" spc="-1" strike="noStrike">
                <a:solidFill>
                  <a:srgbClr val="262626"/>
                </a:solidFill>
                <a:latin typeface="Century Gothic"/>
              </a:rPr>
              <a:t>Bibliografia e spunti di riflessione:</a:t>
            </a:r>
            <a:endParaRPr b="0" lang="en-US" sz="2500" spc="-1" strike="noStrike">
              <a:solidFill>
                <a:srgbClr val="262626"/>
              </a:solidFill>
              <a:latin typeface="Century Gothic"/>
            </a:endParaRPr>
          </a:p>
        </p:txBody>
      </p:sp>
      <p:sp>
        <p:nvSpPr>
          <p:cNvPr id="1246" name=""/>
          <p:cNvSpPr txBox="1"/>
          <p:nvPr/>
        </p:nvSpPr>
        <p:spPr>
          <a:xfrm>
            <a:off x="301680" y="1371600"/>
            <a:ext cx="8507520" cy="53085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ondamentali testi di educazione musicale per la scuola media: C. Delfrati - "Progetti sonori/Trio"; R.Deriu, Pasquali, Ventura -" Il nuovo albero della musica"/”Prova d’orchestra”; Vacchi “Musica con noi”; R. Castello “Spazi musicali”,”Musicando”, “Preludio”;  Siniscalchi , Galli – Finestre sulla musica”</a:t>
            </a:r>
            <a:endParaRPr b="0" lang="en-US" sz="1800" spc="-1" strike="noStrike">
              <a:solidFill>
                <a:srgbClr val="404040"/>
              </a:solidFill>
              <a:latin typeface="Century Gothic"/>
            </a:endParaRPr>
          </a:p>
          <a:p>
            <a:pPr>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 attività su Mussorgsky può prevedere una partenza diversa, per esempio dalla pratica strumentale, o dalla musica d’insieme</a:t>
            </a:r>
            <a:endParaRPr b="0" lang="en-US" sz="1800" spc="-1" strike="noStrike">
              <a:solidFill>
                <a:srgbClr val="404040"/>
              </a:solidFill>
              <a:latin typeface="Century Gothic"/>
            </a:endParaRPr>
          </a:p>
          <a:p>
            <a:pPr>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proporre la conoscenza di brani diversi attraverso l’ascolto di una pluralità di espressioni musicali di generi e stili diversi, favorendo anche il dialogo interculturale </a:t>
            </a:r>
            <a:endParaRPr b="0" lang="en-US" sz="18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far scegliere il brano agli alunni rendendoli consapevoli della scelta, analizzando il brano dal punto di vista ritmico - melodico, e osservando le differenze di parti ritmiche e melodiche, di generi e stili diversi</a:t>
            </a:r>
            <a:endParaRPr b="0" lang="en-US" sz="18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deguare e poi assegnare le parti al livello di competenze raggiunto dagli alunni, in modo da non escludere nessuno e al tempo stesso valorizzare chi è più abile nell’esecuzione</a:t>
            </a:r>
            <a:endParaRPr b="0" lang="en-US" sz="18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814560" y="101160"/>
            <a:ext cx="5329080" cy="1089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262626"/>
                </a:solidFill>
                <a:latin typeface="Century Gothic"/>
              </a:rPr>
              <a:t>Quesito n. 2</a:t>
            </a:r>
            <a:br>
              <a:rPr sz="2500"/>
            </a:br>
            <a:r>
              <a:rPr b="0" lang="it-IT" sz="2500" spc="-1" strike="noStrike">
                <a:solidFill>
                  <a:srgbClr val="262626"/>
                </a:solidFill>
                <a:latin typeface="Century Gothic"/>
              </a:rPr>
              <a:t>Bibliografia e spunti di riflessione:</a:t>
            </a:r>
            <a:endParaRPr b="0" lang="en-US" sz="2500" spc="-1" strike="noStrike">
              <a:solidFill>
                <a:srgbClr val="262626"/>
              </a:solidFill>
              <a:latin typeface="Century Gothic"/>
            </a:endParaRPr>
          </a:p>
        </p:txBody>
      </p:sp>
      <p:sp>
        <p:nvSpPr>
          <p:cNvPr id="1248" name=""/>
          <p:cNvSpPr txBox="1"/>
          <p:nvPr/>
        </p:nvSpPr>
        <p:spPr>
          <a:xfrm>
            <a:off x="457200" y="1190160"/>
            <a:ext cx="8686800" cy="5032440"/>
          </a:xfrm>
          <a:prstGeom prst="rect">
            <a:avLst/>
          </a:prstGeom>
          <a:noFill/>
          <a:ln w="0">
            <a:noFill/>
          </a:ln>
        </p:spPr>
        <p:txBody>
          <a:bodyPr anchor="t">
            <a:normAutofit/>
          </a:bodyPr>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strutturare il brano secondo una forma che comprenda la pratica improvvisativa, oppure eseguire la forma del brano originale</a:t>
            </a: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far eseguire la melodia del brano e gli accompagnamenti a diversi strumenti ritmico melodici scegliendo quali parti ritmiche sono più adeguate di altre per l’accompagnamento</a:t>
            </a: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finire insieme agli alunni la dinamica e l’agogica del brano, ascoltando l’originale o adeguandole alle diverse parti e ai timbri dei vari strumenti</a:t>
            </a:r>
            <a:endParaRPr b="0" lang="en-US" sz="17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far comporre agli alunni una parte ritmica e/o melodica da aggiungere</a:t>
            </a: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elaborare un video multimediale sull’esecuzione del brano, aggiungendo parti di espressione corporea e scegliendo le immagini adeguate allo stile</a:t>
            </a:r>
            <a:endParaRPr b="0" lang="en-US" sz="17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txBox="1"/>
          <p:nvPr/>
        </p:nvSpPr>
        <p:spPr>
          <a:xfrm>
            <a:off x="1058400" y="379080"/>
            <a:ext cx="7520040" cy="5910120"/>
          </a:xfrm>
          <a:prstGeom prst="rect">
            <a:avLst/>
          </a:prstGeom>
          <a:noFill/>
          <a:ln w="0">
            <a:noFill/>
          </a:ln>
        </p:spPr>
        <p:txBody>
          <a:bodyPr anchor="t">
            <a:normAutofit/>
          </a:bodyPr>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404040"/>
                </a:solidFill>
                <a:latin typeface="Century Gothic"/>
              </a:rPr>
              <a:t>Dopo le attività e le pratiche, l’elaborazione dell’Uda:</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gli </a:t>
            </a:r>
            <a:r>
              <a:rPr b="1" lang="it-IT" sz="1500" spc="-1" strike="noStrike">
                <a:solidFill>
                  <a:srgbClr val="404040"/>
                </a:solidFill>
                <a:latin typeface="Century Gothic"/>
              </a:rPr>
              <a:t>obiettivi</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da raggiungere: dividere in parti uguali e diverse un brano, …</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le </a:t>
            </a:r>
            <a:r>
              <a:rPr b="1" lang="it-IT" sz="1500" spc="-1" strike="noStrike">
                <a:solidFill>
                  <a:srgbClr val="404040"/>
                </a:solidFill>
                <a:latin typeface="Century Gothic"/>
              </a:rPr>
              <a:t>competenze</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sa analizzare il brano nella sua parte ritmica, metrica e melodica; sa confrontarlo con altri brani simili recuperati dal web; sa eseguire il brano con espressività; </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a:t>
            </a:r>
            <a:r>
              <a:rPr b="1" lang="it-IT" sz="1500" spc="-1" strike="noStrike">
                <a:solidFill>
                  <a:srgbClr val="404040"/>
                </a:solidFill>
                <a:latin typeface="Century Gothic"/>
              </a:rPr>
              <a:t>competenze interdisciplinari</a:t>
            </a:r>
            <a:r>
              <a:rPr b="0" lang="it-IT" sz="1500" spc="-1" strike="noStrike">
                <a:solidFill>
                  <a:srgbClr val="404040"/>
                </a:solidFill>
                <a:latin typeface="Century Gothic"/>
              </a:rPr>
              <a:t>: sa eseguire l’accompagnamento trovato sul proprio strumento mentre ascolta il brano</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scegliere le </a:t>
            </a:r>
            <a:r>
              <a:rPr b="1" lang="it-IT" sz="1500" spc="-1" strike="noStrike">
                <a:solidFill>
                  <a:srgbClr val="404040"/>
                </a:solidFill>
                <a:latin typeface="Century Gothic"/>
              </a:rPr>
              <a:t>metodologie da applicare</a:t>
            </a:r>
            <a:r>
              <a:rPr b="0" lang="it-IT" sz="1500" spc="-1" strike="noStrike">
                <a:solidFill>
                  <a:srgbClr val="404040"/>
                </a:solidFill>
                <a:latin typeface="Century Gothic"/>
              </a:rPr>
              <a:t>: lavoro di gruppo, ricerca di brani sul web, didattica digitale integrata, flipped classroom</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utilizzare </a:t>
            </a:r>
            <a:r>
              <a:rPr b="1" lang="it-IT" sz="1500" spc="-1" strike="noStrike">
                <a:solidFill>
                  <a:srgbClr val="404040"/>
                </a:solidFill>
                <a:latin typeface="Century Gothic"/>
              </a:rPr>
              <a:t>mezzi e strumenti tecnologici</a:t>
            </a:r>
            <a:r>
              <a:rPr b="0" lang="it-IT" sz="1500" spc="-1" strike="noStrike">
                <a:solidFill>
                  <a:srgbClr val="404040"/>
                </a:solidFill>
                <a:latin typeface="Century Gothic"/>
              </a:rPr>
              <a:t>: sa modificare il genere e lo stile usando diversamente i parametri sonori; sa presenta ai compagni il lavoro svolto e li dirige sulle parti ritmiche studiate e d eseguite insieme.</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prevedere le </a:t>
            </a:r>
            <a:r>
              <a:rPr b="1" lang="it-IT" sz="1500" spc="-1" strike="noStrike">
                <a:solidFill>
                  <a:srgbClr val="404040"/>
                </a:solidFill>
                <a:latin typeface="Century Gothic"/>
              </a:rPr>
              <a:t>verifiche</a:t>
            </a:r>
            <a:r>
              <a:rPr b="0" lang="it-IT" sz="1500" spc="-1" strike="noStrike">
                <a:solidFill>
                  <a:srgbClr val="404040"/>
                </a:solidFill>
                <a:latin typeface="Century Gothic"/>
              </a:rPr>
              <a:t> su altri contenuti musicali o su altre pratiche, la </a:t>
            </a:r>
            <a:r>
              <a:rPr b="1" lang="it-IT" sz="1500" spc="-1" strike="noStrike">
                <a:solidFill>
                  <a:srgbClr val="404040"/>
                </a:solidFill>
                <a:latin typeface="Century Gothic"/>
              </a:rPr>
              <a:t>valutazione </a:t>
            </a:r>
            <a:r>
              <a:rPr b="0" lang="it-IT" sz="1500" spc="-1" strike="noStrike">
                <a:solidFill>
                  <a:srgbClr val="404040"/>
                </a:solidFill>
                <a:latin typeface="Century Gothic"/>
              </a:rPr>
              <a:t>e i criteri legati ad essa: predisporre questionari, griglie, schede d’ascolto, elaborazione di composizioni e improvvisazioni</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44360" y="623880"/>
            <a:ext cx="6589800" cy="8143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3</a:t>
            </a:r>
            <a:endParaRPr b="0" lang="en-US" sz="3600" spc="-1" strike="noStrike">
              <a:solidFill>
                <a:srgbClr val="262626"/>
              </a:solidFill>
              <a:latin typeface="Century Gothic"/>
            </a:endParaRPr>
          </a:p>
        </p:txBody>
      </p:sp>
      <p:sp>
        <p:nvSpPr>
          <p:cNvPr id="1251" name=""/>
          <p:cNvSpPr txBox="1"/>
          <p:nvPr/>
        </p:nvSpPr>
        <p:spPr>
          <a:xfrm>
            <a:off x="736200" y="2063880"/>
            <a:ext cx="7797960" cy="3990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 Il processo di valutazione nella secondaria di I e II grado prevede che il docente preceda, accompagni e segua gli step curricolari musicali dell’alunno. Il candidato esponga i passaggi necessari e previsti dalla normativa, affinché la valutazione finale della disciplina musica/strumento sia corretta e più possibile rispondente all’idea stessa di valutazione, nonché del curricolo previsto per la disciplina?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5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esito n. 1 a risposta aperta</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econdo un concetto di cultura, intesa non come puro accumulo di dati e nomi, e nello sviluppo di principi di educazione alla cittadinanza, il/la candidato/a illustri il piano metodologico che intende attuare a partire da un metodo/approccio musicale, da un contenuto musicale e da una pratica a scelta</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55" name=""/>
          <p:cNvSpPr txBox="1"/>
          <p:nvPr/>
        </p:nvSpPr>
        <p:spPr>
          <a:xfrm>
            <a:off x="1942920" y="2133360"/>
            <a:ext cx="6591240" cy="3778200"/>
          </a:xfrm>
          <a:prstGeom prst="rect">
            <a:avLst/>
          </a:prstGeom>
          <a:noFill/>
          <a:ln w="0">
            <a:noFill/>
          </a:ln>
        </p:spPr>
        <p:txBody>
          <a:bodyPr anchor="t">
            <a:normAutofit fontScale="75000"/>
          </a:bodyPr>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J.Tafuri - L'educazione musicale: teorie, metodi, pratiche – 1996, Edt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s://www.docsity.com/it/l-educazione-musicale-teorie-metodi-pratiche-di-johannella-tafuri/2539546/</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L. Minutoli, I. Papale – Ritmo…in mix – Ed. Carisch, 1999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ilgiardinodelleidee.eu/ritmo-in-mix-pratiche-ritmiche-di-lettura-ascolto-musica-dinsieme-2/</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attraverso concrete esperienze musicali di fruizione e produzione musicale, secondo i principi del metodo induttivo, si avranno acquisizioni di vario tipo: dall’apprendere la teoria musicale, la grafica musicale, all’acquisizione di capacità analitiche sui brani musical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partire dalla prassi ritmica per arrivare ad acquisizioni teoriche che mettano a confronto epoche stili e generi: dall’ascolto di un brano individuare le figurazioni ricorrenti e riconoscerle                                              in altri bran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57" name=""/>
          <p:cNvSpPr txBox="1"/>
          <p:nvPr/>
        </p:nvSpPr>
        <p:spPr>
          <a:xfrm>
            <a:off x="1942920" y="2133360"/>
            <a:ext cx="6591240" cy="3778200"/>
          </a:xfrm>
          <a:prstGeom prst="rect">
            <a:avLst/>
          </a:prstGeom>
          <a:noFill/>
          <a:ln w="0">
            <a:noFill/>
          </a:ln>
        </p:spPr>
        <p:txBody>
          <a:bodyPr anchor="t">
            <a:normAutofit fontScale="28000"/>
          </a:bodyPr>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esito n. 2 a risposta apert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e verifiche intermedie e le valutazioni periodiche e finali musicali devono essere coerenti con gli obiettivi e i traguardi previsti dalle Indicazioni, e declinati nel curricolo». Il/la candidato/a indichi e descriva operativamente quali strumenti di valutazione e quali procedure intende adottare per il traguardo delle competenze del triennio della scuola media riferite alla disciplina Music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D.Lgs 62/2017 - ART. 1 PRINCIPI. OGGETTO E FINALITA' DELLA VALUTAZIONE E DELLA CERTIFICAZIONE </a:t>
            </a:r>
            <a:r>
              <a:rPr b="0" lang="it-IT" sz="1800" spc="-1" strike="noStrike">
                <a:solidFill>
                  <a:srgbClr val="404040"/>
                </a:solidFill>
                <a:latin typeface="Century Gothic"/>
              </a:rPr>
              <a:t>https://www.gazzettaufficiale.it/eli/id/2017/05/16/17G00070/sg</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ma 1. «</a:t>
            </a:r>
            <a:r>
              <a:rPr b="0" lang="it-IT" sz="1800" spc="-1" strike="noStrike">
                <a:solidFill>
                  <a:srgbClr val="404040"/>
                </a:solidFill>
                <a:latin typeface="Century Gothic"/>
              </a:rPr>
              <a:t>La valutazione ha per oggetto il processo formativo e i risultati di apprendimento delle alunne e degli alunni, delle studentesse e degli studenti delle istituzioni scolastiche del sistema nazionale di istruzione e formazione, ha finalità formativa ed educativa e concorre al miglioramento degli apprendimenti e al successo formativo degli stessi, documenta lo sviluppo dell'identità personale e promuove la autovalutazione di ciascuno in relazione alle acquisizioni di conoscenze, abilità e competenze».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ma</a:t>
            </a:r>
            <a:r>
              <a:rPr b="0" lang="it-IT" sz="1800" spc="-1" strike="noStrike">
                <a:solidFill>
                  <a:srgbClr val="404040"/>
                </a:solidFill>
                <a:latin typeface="Century Gothic"/>
              </a:rPr>
              <a:t> </a:t>
            </a:r>
            <a:r>
              <a:rPr b="1" lang="it-IT" sz="1800" spc="-1" strike="noStrike">
                <a:solidFill>
                  <a:srgbClr val="404040"/>
                </a:solidFill>
                <a:latin typeface="Century Gothic"/>
              </a:rPr>
              <a:t>2</a:t>
            </a:r>
            <a:r>
              <a:rPr b="0" lang="it-IT" sz="1800" spc="-1" strike="noStrike">
                <a:solidFill>
                  <a:srgbClr val="404040"/>
                </a:solidFill>
                <a:latin typeface="Century Gothic"/>
              </a:rPr>
              <a:t> «La valutazione è coerente con l'offerta formativa delle istituzioni scolastiche, con la personalizzazione dei percorsi e con le Indicazioni Nazionali per il curricolo e le Linee guida di cui ai decreti del Presidente della Repubblica 15 marzo 2010, n. 87, n. 88 e n. 89; è effettuata dai docenti nell'esercizio della propria autonomia professionale, in conformità con i criteri e le modalità definiti dal collegio dei docenti e inseriti nel piano triennale dell'offerta formativa».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 valutazione ha un valore formativo e didattico, è oggetto di riflessione e monitoraggio sistemico da parte dei docenti.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è osservazione sistematica dei processi di apprendimento musicale e avviene attraverso predisposizione di strumenti (griglie, test, compiti di realtà, ecc.)</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rileva le capacità di confronto e analisi attraverso schede d’ascolto di brani di generi diversi per il raggiungimento degli obiettivi formativi e disciplinari.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utovalutazione da parte dell’alunno, attraverso l’osservazione oggettiva delle proprie esecuzioni vocali e strumentali, gli consente di diventare protagonista del proprio percorso di apprendimento;</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e performance sono oggetto di autovalutazione e comunicazione ai genitori, che partecipano così al progetto educativo e didattico del proprio figlio</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esito n. 3 a risposta apert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e competenze trasversali permettono di «consolidare l’</a:t>
            </a:r>
            <a:r>
              <a:rPr b="0" i="1" lang="it-IT" sz="1800" spc="-1" strike="noStrike">
                <a:solidFill>
                  <a:srgbClr val="404040"/>
                </a:solidFill>
                <a:latin typeface="Century Gothic"/>
              </a:rPr>
              <a:t>identità,</a:t>
            </a:r>
            <a:r>
              <a:rPr b="0" lang="it-IT" sz="1800" spc="-1" strike="noStrike">
                <a:solidFill>
                  <a:srgbClr val="404040"/>
                </a:solidFill>
                <a:latin typeface="Century Gothic"/>
              </a:rPr>
              <a:t> vivere serenamente tutte le dimensioni del proprio io, stare bene, essere rassicurati nella molteplicità del proprio fare e sentire, sentirsi sicuri in un ambiente sociale allargato, imparare a conoscersi e ad essere riconosciuti come persona unica e irripetibile». Come si pone la musica riguardo all’educazione trasversale e alla formazione di tale </a:t>
            </a:r>
            <a:r>
              <a:rPr b="0" i="1" lang="it-IT" sz="1800" spc="-1" strike="noStrike">
                <a:solidFill>
                  <a:srgbClr val="404040"/>
                </a:solidFill>
                <a:latin typeface="Century Gothic"/>
              </a:rPr>
              <a:t>identità, </a:t>
            </a:r>
            <a:r>
              <a:rPr b="0" lang="it-IT" sz="1800" spc="-1" strike="noStrike">
                <a:solidFill>
                  <a:srgbClr val="404040"/>
                </a:solidFill>
                <a:latin typeface="Century Gothic"/>
              </a:rPr>
              <a:t>e in che modo le regole musicali possono veicolare competenze formative e non solo disciplinari? </a:t>
            </a:r>
            <a:r>
              <a:rPr b="0" i="1" lang="it-IT" sz="1800" spc="-1" strike="noStrike">
                <a:solidFill>
                  <a:srgbClr val="404040"/>
                </a:solidFill>
                <a:latin typeface="Century Gothic"/>
              </a:rPr>
              <a:t> </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M. Della Casa – La comunicazione musicale e l’educazione – La Scuola, 1974</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s://www.siem-online.it/siem/wp-content/uploads/2014/10/ElaborazioneCurricoloUnitarioInVistaDel-RiordinoDeiCicli.pdf</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 Ferrari M. Spaccazocchi – Guida all’esame di Educazione Musicale, La scuola 1988</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l’educazione musicale nella scuola primaria e secondaria EDUCA alla:  FLESSIBILITA’, poiché fornisce gli strumenti cognitivi e affettivo-emozionali necessari all’autonomia nelle scelte di orientamento e di formazione.</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la musica sviluppa capacità di pensiero produttivo-immaginativo in particolare nelle attività di produzione sonora, e di pensiero analitico, logico, inferenziale, in particolare nelle attività di riflessione e interpretazione.</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Esempi di Competenze trasversali: cognitive ed educative:</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distinguere e scegliere cosa è più adeguato per sé;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concentrarsi sul lavoro individuale;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collaborare e confrontarsi coi compagni</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estrapolare dal fare musica principi e valori di educazione alla cittadinanz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468000" y="1349280"/>
            <a:ext cx="8675640" cy="550872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La valutazione finale su musica e strumento terrà conto:</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 </a:t>
            </a:r>
            <a:r>
              <a:rPr b="0" lang="it-IT" sz="1700" spc="-1" strike="noStrike">
                <a:solidFill>
                  <a:srgbClr val="404040"/>
                </a:solidFill>
                <a:latin typeface="Century Gothic"/>
              </a:rPr>
              <a:t>dei risultati delle verifiche: ritmiche, melodiche, di analisi, di esecuzione, ecc.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le osservazioni sistematiche durante l’anno: ha decodificato in modo eccellente la lettura musicale proposta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 livello di partenza: non aveva capacità di attenzione adesso mostra di averne acquisite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la partecipazione, dell’impegno dimostrato</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le griglie di riferimento della scuola: ascoltare e analizzare, esprimersi allo strumento e/o vocalmente,  </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Prevede dei criteri: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Continuità, coerenza, efficacia, ecc.: </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Es.: frequenta con continuità, mostra coerenza tra applicazione pratica e teoria musicale</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 Es.: esegue con correttezza ritmica i brani proposti</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 Es.: crea idee musicali semplici che presuppongono lo sviluppo futuro delle sue capacità creative</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Es.: ha difficoltà nella comprensione della lettura delle note musicali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
        <p:nvSpPr>
          <p:cNvPr id="1259" name="PlaceHolder 1"/>
          <p:cNvSpPr>
            <a:spLocks noGrp="1"/>
          </p:cNvSpPr>
          <p:nvPr>
            <p:ph type="title"/>
          </p:nvPr>
        </p:nvSpPr>
        <p:spPr>
          <a:xfrm>
            <a:off x="3814560" y="101160"/>
            <a:ext cx="5329080" cy="1089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262626"/>
                </a:solidFill>
                <a:latin typeface="Century Gothic"/>
              </a:rPr>
              <a:t>Quesito n. 3</a:t>
            </a:r>
            <a:br>
              <a:rPr sz="2500"/>
            </a:br>
            <a:r>
              <a:rPr b="0" lang="it-IT" sz="2500" spc="-1" strike="noStrike">
                <a:solidFill>
                  <a:srgbClr val="262626"/>
                </a:solidFill>
                <a:latin typeface="Century Gothic"/>
              </a:rPr>
              <a:t>Bibliografia e spunti di riflessione:</a:t>
            </a:r>
            <a:endParaRPr b="0" lang="en-US" sz="25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txBox="1"/>
          <p:nvPr/>
        </p:nvSpPr>
        <p:spPr>
          <a:xfrm>
            <a:off x="1807920" y="695160"/>
            <a:ext cx="6592680" cy="54151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 Qual è l’organico strumentale originale della suite orchestrale “Ma Mère l’Oye” di M. Ravel?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 Cosa significa forma musicale di un brano</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4. Nel metodo Kodaly si insegna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5. . Per acquisire una corretta tecnica strumentale è necessari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a Adottare strategie educative e didattiche adeguate alle capacità cognitive dell’alunn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b Eseguire esercizi e brani sempre da seduti per evitare che si creino danni fisici</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c Imparare una corretta respirazione da applicare al suon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d Studiare per almeno 3 mesi solo esercizi tecnici allo strument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2" name=""/>
          <p:cNvSpPr txBox="1"/>
          <p:nvPr/>
        </p:nvSpPr>
        <p:spPr>
          <a:xfrm>
            <a:off x="1942920" y="2133360"/>
            <a:ext cx="6591240" cy="3778200"/>
          </a:xfrm>
          <a:prstGeom prst="rect">
            <a:avLst/>
          </a:prstGeom>
          <a:noFill/>
          <a:ln w="0">
            <a:noFill/>
          </a:ln>
        </p:spPr>
        <p:txBody>
          <a:bodyPr anchor="t">
            <a:normAutofit fontScale="88000"/>
          </a:bodyPr>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0.c l’insegnamento dello strumento conduce attraverso l'integrazione con l'educazione musicale a far acquisire capacità cognitive riguardo alle categorie musicali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Maurizio Della Casa parla di </a:t>
            </a:r>
            <a:r>
              <a:rPr b="0" i="1" lang="it-IT" sz="1800" spc="-1" strike="noStrike">
                <a:solidFill>
                  <a:srgbClr val="404040"/>
                </a:solidFill>
                <a:latin typeface="Century Gothic"/>
              </a:rPr>
              <a:t>operazioni</a:t>
            </a:r>
            <a:r>
              <a:rPr b="0" lang="it-IT" sz="1800" spc="-1" strike="noStrike">
                <a:solidFill>
                  <a:srgbClr val="404040"/>
                </a:solidFill>
                <a:latin typeface="Century Gothic"/>
              </a:rPr>
              <a:t> per elaborare, rielaborare o analizzare una melodia. Quali sono tra le seguenti opzioni?</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a Ripeto, Trasporto, Aggiungo, Trasformo</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b Elaborare una melodia sui principi di: Ripetizione, somiglianza, contrasto</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c Pensare prima alla composizione ritmica e poi all’aggiunta di note musicali</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d Cogliere l’idea musicale di partenza e inventare lo sviluppo e la conclusione del tema iniziale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221760" y="0"/>
            <a:ext cx="8921880" cy="68580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Linee guida relative alle iniziative </a:t>
            </a:r>
            <a:r>
              <a:rPr b="0" lang="it-IT" sz="1800" spc="-1" strike="noStrike">
                <a:solidFill>
                  <a:srgbClr val="404040"/>
                </a:solidFill>
                <a:latin typeface="Century Gothic"/>
              </a:rPr>
              <a:t>“volte alla diffusione della cultura e della pratica musicale”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1.flcgil.stgy.it/files/pdf/20140203/nota-151-del-17-gennaio-2014-trasmissione-linee-guida-al-d-m-8-11-indicazioni-operative.pdf</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Piano delle arti 13 aprile 2017, </a:t>
            </a:r>
            <a:r>
              <a:rPr b="0" lang="it-IT" sz="1800" spc="-1" strike="noStrike">
                <a:solidFill>
                  <a:srgbClr val="404040"/>
                </a:solidFill>
                <a:latin typeface="Century Gothic"/>
              </a:rPr>
              <a:t>l’armonizzazione dei percorsi formativi della filiera artistico-musical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s://www.normattiva.it/uri-res/N2Ls?urn:nir:stato:decreto.legislativo:2017-04-13;60!vig=</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ertificazione delle competenze </a:t>
            </a:r>
            <a:r>
              <a:rPr b="0" lang="it-IT" sz="1800" spc="-1" strike="noStrike">
                <a:solidFill>
                  <a:srgbClr val="404040"/>
                </a:solidFill>
                <a:latin typeface="Century Gothic"/>
              </a:rPr>
              <a:t>Disciplina Musica</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u="sng">
                <a:solidFill>
                  <a:srgbClr val="404040"/>
                </a:solidFill>
                <a:uFillTx/>
                <a:latin typeface="Century Gothic"/>
              </a:rPr>
              <a:t>http://www.psz.it/categorie03.asp?id=167</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4" name=""/>
          <p:cNvSpPr txBox="1"/>
          <p:nvPr/>
        </p:nvSpPr>
        <p:spPr>
          <a:xfrm>
            <a:off x="1774800" y="1429920"/>
            <a:ext cx="6593040" cy="3778200"/>
          </a:xfrm>
          <a:prstGeom prst="rect">
            <a:avLst/>
          </a:prstGeom>
          <a:noFill/>
          <a:ln w="0">
            <a:noFill/>
          </a:ln>
        </p:spPr>
        <p:txBody>
          <a:bodyPr anchor="t">
            <a:normAutofit fontScale="71000"/>
          </a:bodyPr>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 indicata “capacità di produrre autonome elaborazioni di materiali sonori” come meglio può essere declinata?</a:t>
            </a:r>
            <a:r>
              <a:rPr b="1" lang="it-IT" sz="1800" spc="-1" strike="noStrike">
                <a:solidFill>
                  <a:srgbClr val="404040"/>
                </a:solidFill>
                <a:latin typeface="Century Gothic"/>
              </a:rPr>
              <a:t> Le attività espressivo-creative in Musica sono intese come capacità:</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7.a di ideare, realizzare, manipolare, attraverso improvvisazione ed elaborazione collettiva, messaggi musicali e multimediali utilizzando anche sistemi informatici e nel confronto critico con modelli appartenenti al patrimonio musicale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a Comporre brani melodici con accompagnamento armonico e ritmico con strumenti di vario tipo</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b Costruire strumenti musicali poveri con materiali di riciclo per sviluppare abilità manipolative</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c Sviluppare la dimensione creativa dell’alunno attraverso composizione, improvvisazione, rielaborazione di ritmi, melodie, forme, accompagnamenti dati su brani eseguiti e/o ascoltati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d Sviluppare capacità di lettura allo strumento, di correlazione segno - gesto – suono, con tutte le componenti proprie del linguaggio musicale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6" name=""/>
          <p:cNvSpPr txBox="1"/>
          <p:nvPr/>
        </p:nvSpPr>
        <p:spPr>
          <a:xfrm>
            <a:off x="1942920" y="2133360"/>
            <a:ext cx="6591240" cy="3778200"/>
          </a:xfrm>
          <a:prstGeom prst="rect">
            <a:avLst/>
          </a:prstGeom>
          <a:noFill/>
          <a:ln w="0">
            <a:noFill/>
          </a:ln>
        </p:spPr>
        <p:txBody>
          <a:bodyPr anchor="t">
            <a:normAutofit fontScale="84000"/>
          </a:bodyPr>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7.b Essendo la musica d’insieme strumento metodologico privilegiato del percorso strumentale, questa diventa veicolo di viva e concreta esperienza, ancor più avanzata della pratica individuale</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i sono gli elementi importanti per la corretta e positiva valutazione su esecuzione e interpretazione?</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9.a L’alunno esegue portando avanti un’idea musicale coerente, autonoma e con contributo personale, sviluppando sonorità di soddisfacente livello. I fraseggi sono ampi, chiari e ben delineati. </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Come si pone la pratica d’ascolto per l’insegnamento dello strumento?</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0.a E’ una risorsa metodologica che sviluppa capacità discriminative ai parametri e agli elementi della musica e permette di comparare testimonianze musicali significative utili a tutte le pratiche musicali, sia individuali che d’insieme</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8" name=""/>
          <p:cNvSpPr txBox="1"/>
          <p:nvPr/>
        </p:nvSpPr>
        <p:spPr>
          <a:xfrm>
            <a:off x="1942920" y="2133360"/>
            <a:ext cx="6591240" cy="3778200"/>
          </a:xfrm>
          <a:prstGeom prst="rect">
            <a:avLst/>
          </a:prstGeom>
          <a:noFill/>
          <a:ln w="0">
            <a:noFill/>
          </a:ln>
        </p:spPr>
        <p:txBody>
          <a:bodyPr anchor="t">
            <a:normAutofit fontScale="87000"/>
          </a:bodyPr>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e tra le seguenti è una competenza certificabile alla fine del II biennio di strumento: </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1.a Analizzare e descrivere all’ascolto le principali caratteristiche morfologiche e sintattico-formali e i principali tratti stilistici relativi ad un brano musicale.</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Obiettivo dell'istituzione scolastica è prevenire il disagio e promuovere il successo scolastico aiutando gli studenti a prepararsi al futuro. Come va predisposto e facilitato il passaggio da un grado di studi all'altro per gli alunni in difficoltà?</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4.a Si integrano approcci differenti al fine di mettere gli alunni in condizione di autonomia operativa, verificando che abbiano acquisito strumenti efficaci in ordine alle competenze chiave, per facilitare l’accesso all’ordine di scuola differente</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0" name=""/>
          <p:cNvSpPr txBox="1"/>
          <p:nvPr/>
        </p:nvSpPr>
        <p:spPr>
          <a:xfrm>
            <a:off x="1607760" y="1074240"/>
            <a:ext cx="6591240" cy="3776760"/>
          </a:xfrm>
          <a:prstGeom prst="rect">
            <a:avLst/>
          </a:prstGeom>
          <a:noFill/>
          <a:ln w="0">
            <a:noFill/>
          </a:ln>
        </p:spPr>
        <p:txBody>
          <a:bodyPr anchor="t">
            <a:normAutofit fontScale="79000"/>
          </a:bodyPr>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e tra i seguenti metodi è una possibile ed efficace iniziale sequenza d’insegnamento di strumento per motivare un allievo di I grado che non ha competenze strumentali?</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i principi deve rispettare una didattica strumentale inclusiva di alunni con bisogni educativi speciali?</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a Deve tenere in considerazione difficoltà di ordine ritmico – melodico, di coordinazione motoria, di memorizzazione, di comprensione e organizzazione dei materiali adeguando obiettivi e contenuti di strumento alle differenti difficoltà dell’alunno</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Alla fine del II biennio del liceo musicale, l’alunno quali competenze deve acquisire dal punto di vista estetico musicale?</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0.d Saper riflettere e mettere a confronto filosofia della musica e musicologia (teoria musicale, analisi musicale, storia della musica) attraverso lo studio di quattro concetti fondamentali: espressione, forma, opera, stile</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2" name=""/>
          <p:cNvSpPr txBox="1"/>
          <p:nvPr/>
        </p:nvSpPr>
        <p:spPr>
          <a:xfrm>
            <a:off x="1819080" y="1096560"/>
            <a:ext cx="6592680" cy="3776760"/>
          </a:xfrm>
          <a:prstGeom prst="rect">
            <a:avLst/>
          </a:prstGeom>
          <a:noFill/>
          <a:ln w="0">
            <a:noFill/>
          </a:ln>
        </p:spPr>
        <p:txBody>
          <a:bodyPr anchor="t">
            <a:normAutofit fontScale="75000"/>
          </a:bodyPr>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Perché è importante per un docente di Musica riflettere e determinare obiettivi e competenze nella programmazione didattica?</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Perché il docente deve tenere presente obiettivi e competenze per la scelta di contenuti musicali, strategie, procedure funzionali al raggiungimento degli obiettivi stess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Tra i seguenti obiettivi di apprendimento, quale è più auspicabile che gli alunni raggiungano alla fine della scuola media?</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d Orientare la costruzione della propria identità musicale, ampliarne l’orizzonte valorizzando le proprie esperienze.</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ali tra queste rappresenta un traguardo delle competenze di Musica per la fine del triennio della secondaria di I grado?</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0.c Comprende e valuta eventi, materiali, opere musicali riconoscendone i significati, anche in relazione alla propria esperienza musicale e personale, e ai contesti storico-culturali che si è trovato ad affrontare</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4" name=""/>
          <p:cNvSpPr txBox="1"/>
          <p:nvPr/>
        </p:nvSpPr>
        <p:spPr>
          <a:xfrm>
            <a:off x="1942920" y="2133360"/>
            <a:ext cx="6591240" cy="3778200"/>
          </a:xfrm>
          <a:prstGeom prst="rect">
            <a:avLst/>
          </a:prstGeom>
          <a:noFill/>
          <a:ln w="0">
            <a:noFill/>
          </a:ln>
        </p:spPr>
        <p:txBody>
          <a:bodyPr anchor="t">
            <a:normAutofit fontScale="75000"/>
          </a:bodyPr>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acendo un esempio a partire da un obiettivo disciplinare e di didattica intradisciplinare, il/la candidato/a descriva come possono essere intrecciate diverse pratiche musicali tenendo conto dell’insegnamento della storia della musica e afferente alla seguente dimensione della musica a scuola: «b) fruizione consapevole, che implica la costruzione e l’elaborazione di significati personali, sociali e culturali, relativamente a fatti, eventi, opere del presente e del passato»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Nella scuola particolare cura è riservata agli allievi con disabilità o in genere con bisogni educativi speciali attraverso adeguate strategie organizzative e didattiche, che vanno considerate nella normale progettazione dell’offerta formativa. Come si inserisce la disciplina Musica per tali alunn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c Si rimodulano e si integrano approcci, metodi e contenuti riguardanti tutte le pratiche e tutti gli elementi della musica, affinché ciascun alunno sia messo in condizione di autonomia operativa, e acquisisca attraverso la musica strumenti efficaci riguardo a semplici competenze chiave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Per chiudere … e riaprire …</a:t>
            </a:r>
            <a:endParaRPr b="0" lang="en-US" sz="3600" spc="-1" strike="noStrike">
              <a:solidFill>
                <a:srgbClr val="262626"/>
              </a:solidFill>
              <a:latin typeface="Century Gothic"/>
            </a:endParaRPr>
          </a:p>
        </p:txBody>
      </p:sp>
      <p:sp>
        <p:nvSpPr>
          <p:cNvPr id="1276" name=""/>
          <p:cNvSpPr txBox="1"/>
          <p:nvPr/>
        </p:nvSpPr>
        <p:spPr>
          <a:xfrm>
            <a:off x="880920" y="1265400"/>
            <a:ext cx="7972560" cy="37764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4000" spc="-1" strike="noStrike">
                <a:solidFill>
                  <a:srgbClr val="325949"/>
                </a:solidFill>
                <a:latin typeface="Century Gothic"/>
              </a:rPr>
              <a:t>«La musica ci insegna la cosa più importante che esista: ascoltare»</a:t>
            </a:r>
            <a:endParaRPr b="0" lang="en-US" sz="4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4000" spc="-1" strike="noStrike">
                <a:solidFill>
                  <a:srgbClr val="325949"/>
                </a:solidFill>
                <a:latin typeface="Century Gothic"/>
              </a:rPr>
              <a:t>E. Bosso</a:t>
            </a:r>
            <a:endParaRPr b="0" lang="en-US" sz="4000" spc="-1" strike="noStrike">
              <a:solidFill>
                <a:srgbClr val="404040"/>
              </a:solidFill>
              <a:latin typeface="Century Gothic"/>
            </a:endParaRPr>
          </a:p>
        </p:txBody>
      </p:sp>
      <p:sp>
        <p:nvSpPr>
          <p:cNvPr id="1277" name="Titolo 1"/>
          <p:cNvSpPr/>
          <p:nvPr/>
        </p:nvSpPr>
        <p:spPr>
          <a:xfrm>
            <a:off x="1673280" y="5041800"/>
            <a:ext cx="6589800" cy="946080"/>
          </a:xfrm>
          <a:prstGeom prst="rect">
            <a:avLst/>
          </a:prstGeom>
          <a:noFill/>
          <a:ln w="0">
            <a:noFill/>
          </a:ln>
        </p:spPr>
        <p:style>
          <a:lnRef idx="0"/>
          <a:fillRef idx="0"/>
          <a:effectRef idx="0"/>
          <a:fontRef idx="minor"/>
        </p:style>
        <p:txBody>
          <a:bodyPr lIns="90000" rIns="90000" tIns="46800" bIns="46800" anchor="t">
            <a:normAutofit/>
          </a:bodyPr>
          <a:p>
            <a:pPr algn="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300" spc="-1" strike="noStrike">
                <a:solidFill>
                  <a:srgbClr val="262626"/>
                </a:solidFill>
                <a:latin typeface="Century Gothic"/>
              </a:rPr>
              <a:t>Grazie a tutti/e!</a:t>
            </a:r>
            <a:br>
              <a:rPr sz="2300"/>
            </a:br>
            <a:br>
              <a:rPr sz="2300"/>
            </a:br>
            <a:r>
              <a:rPr b="0" i="1" lang="it-IT" sz="2300" spc="-1" strike="noStrike">
                <a:solidFill>
                  <a:srgbClr val="262626"/>
                </a:solidFill>
                <a:latin typeface="Century Gothic"/>
              </a:rPr>
              <a:t>Liliana Minutoli</a:t>
            </a:r>
            <a:endParaRPr b="0" lang="en-US" sz="2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634680" y="-360"/>
            <a:ext cx="86202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404040"/>
                </a:solidFill>
                <a:latin typeface="Century Gothic"/>
              </a:rPr>
              <a:t>Due dimensioni dell’apprendimento musicale e strumentale: </a:t>
            </a:r>
            <a:br>
              <a:rPr sz="3200"/>
            </a:br>
            <a:endParaRPr b="0" lang="en-US" sz="3200" spc="-1" strike="noStrike">
              <a:solidFill>
                <a:srgbClr val="262626"/>
              </a:solidFill>
              <a:latin typeface="Century Gothic"/>
            </a:endParaRPr>
          </a:p>
        </p:txBody>
      </p:sp>
      <p:sp>
        <p:nvSpPr>
          <p:cNvPr id="1193" name=""/>
          <p:cNvSpPr txBox="1"/>
          <p:nvPr/>
        </p:nvSpPr>
        <p:spPr>
          <a:xfrm>
            <a:off x="880560" y="1539720"/>
            <a:ext cx="7185240" cy="4827600"/>
          </a:xfrm>
          <a:prstGeom prst="rect">
            <a:avLst/>
          </a:prstGeom>
          <a:noFill/>
          <a:ln w="0">
            <a:noFill/>
          </a:ln>
        </p:spPr>
        <p:txBody>
          <a:bodyPr anchor="t">
            <a:normAutofit/>
          </a:bodyPr>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404040"/>
                </a:solidFill>
                <a:latin typeface="Century Gothic"/>
              </a:rPr>
              <a:t>produzione</a:t>
            </a:r>
            <a:r>
              <a:rPr b="0" lang="it-IT" sz="2800" spc="-1" strike="noStrike">
                <a:solidFill>
                  <a:srgbClr val="404040"/>
                </a:solidFill>
                <a:latin typeface="Century Gothic"/>
              </a:rPr>
              <a:t> </a:t>
            </a:r>
            <a:r>
              <a:rPr b="1" lang="it-IT" sz="2800" spc="-1" strike="noStrike">
                <a:solidFill>
                  <a:srgbClr val="404040"/>
                </a:solidFill>
                <a:latin typeface="Century Gothic"/>
              </a:rPr>
              <a:t>consapevole:</a:t>
            </a:r>
            <a:r>
              <a:rPr b="0" lang="it-IT" sz="2800" spc="-1" strike="noStrike">
                <a:solidFill>
                  <a:srgbClr val="404040"/>
                </a:solidFill>
                <a:latin typeface="Century Gothic"/>
              </a:rPr>
              <a:t> esecuzione individuale e di gruppo, lettura/scrittura, composizione, improvvisazione, interpretazione </a:t>
            </a:r>
            <a:endParaRPr b="0" lang="en-US" sz="2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404040"/>
                </a:solidFill>
                <a:latin typeface="Century Gothic"/>
              </a:rPr>
              <a:t>fruizione consapevole: </a:t>
            </a:r>
            <a:r>
              <a:rPr b="0" lang="it-IT" sz="2800" spc="-1" strike="noStrike">
                <a:solidFill>
                  <a:srgbClr val="404040"/>
                </a:solidFill>
                <a:latin typeface="Century Gothic"/>
              </a:rPr>
              <a:t>percezione</a:t>
            </a:r>
            <a:r>
              <a:rPr b="1" lang="it-IT" sz="2800" spc="-1" strike="noStrike">
                <a:solidFill>
                  <a:srgbClr val="404040"/>
                </a:solidFill>
                <a:latin typeface="Century Gothic"/>
              </a:rPr>
              <a:t>, </a:t>
            </a:r>
            <a:r>
              <a:rPr b="0" lang="it-IT" sz="2800" spc="-1" strike="noStrike">
                <a:solidFill>
                  <a:srgbClr val="404040"/>
                </a:solidFill>
                <a:latin typeface="Century Gothic"/>
              </a:rPr>
              <a:t>ascolto, analisi, discriminazione,  verbalizzazione, contestualizzazione, storicizzazione</a:t>
            </a:r>
            <a:endParaRPr b="0" lang="en-US" sz="2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0" y="-360"/>
            <a:ext cx="9144000" cy="116676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262626"/>
                </a:solidFill>
                <a:latin typeface="Century Gothic"/>
              </a:rPr>
              <a:t>«Conoscenze e competenze disciplinari e didattico-metodologiche in relazione alle discipline oggetto di insegnamento»: Musica e Strumento Musicale I – II grado</a:t>
            </a:r>
            <a:endParaRPr b="0" lang="en-US" sz="2400" spc="-1" strike="noStrike">
              <a:solidFill>
                <a:srgbClr val="262626"/>
              </a:solidFill>
              <a:latin typeface="Century Gothic"/>
            </a:endParaRPr>
          </a:p>
        </p:txBody>
      </p:sp>
      <p:sp>
        <p:nvSpPr>
          <p:cNvPr id="1195" name=""/>
          <p:cNvSpPr txBox="1"/>
          <p:nvPr/>
        </p:nvSpPr>
        <p:spPr>
          <a:xfrm>
            <a:off x="450360" y="1439640"/>
            <a:ext cx="3273480" cy="36226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404040"/>
                </a:solidFill>
                <a:latin typeface="Century Gothic"/>
              </a:rPr>
              <a:t>AMBITI MUSICALI</a:t>
            </a:r>
            <a:endParaRPr b="0" lang="en-US" sz="24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PERCEZIONE</a:t>
            </a:r>
            <a:endParaRPr b="0" lang="en-US" sz="22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COMPRENSIONE</a:t>
            </a:r>
            <a:endParaRPr b="0" lang="en-US" sz="22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PRODUZIONE</a:t>
            </a:r>
            <a:endParaRPr b="0" lang="en-US" sz="22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CREATIVITA’</a:t>
            </a:r>
            <a:endParaRPr b="0" lang="en-US" sz="2200" spc="-1" strike="noStrike">
              <a:solidFill>
                <a:srgbClr val="404040"/>
              </a:solidFill>
              <a:latin typeface="Century Gothic"/>
            </a:endParaRPr>
          </a:p>
        </p:txBody>
      </p:sp>
      <p:sp>
        <p:nvSpPr>
          <p:cNvPr id="1196" name="CasellaDiTesto 1"/>
          <p:cNvSpPr/>
          <p:nvPr/>
        </p:nvSpPr>
        <p:spPr>
          <a:xfrm>
            <a:off x="4048200" y="1440000"/>
            <a:ext cx="5084640" cy="402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entury Gothic"/>
              </a:rPr>
              <a:t>PRATICHE MUSICALI:</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LETTURA</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SCRITTURA</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SCOLTO</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COMPOSI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IMPROVVISA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NALISI</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ESECU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MANIPOLAZIONE DI MATERIALI SONORI</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ORCHESTRA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RRANGIAMENTO</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CCOMPAGNAMENTO</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7" name="CasellaDiTesto 3"/>
          <p:cNvSpPr/>
          <p:nvPr/>
        </p:nvSpPr>
        <p:spPr>
          <a:xfrm>
            <a:off x="104760" y="5081760"/>
            <a:ext cx="9028080" cy="18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entury Gothic"/>
              </a:rPr>
              <a:t>ATTIVITA’ all’interno delle PRATICHE:</a:t>
            </a:r>
            <a:endParaRPr b="0" lang="en-US" sz="24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DIVIDERE IN PARTI UN BRANO, SCEGLIERE LA DINAMICA DEL BRANO, INDIVIDUARE GLI STRUMENTI MUSICALI, INVENTA UN PARTE RITMICA, ESEGUI L’ACCOMPAGNAMENTO, ECC.</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4"/>
          <p:cNvSpPr/>
          <p:nvPr/>
        </p:nvSpPr>
        <p:spPr>
          <a:xfrm>
            <a:off x="0" y="685080"/>
            <a:ext cx="9144000" cy="3766320"/>
          </a:xfrm>
          <a:prstGeom prst="rect">
            <a:avLst/>
          </a:prstGeom>
          <a:noFill/>
          <a:ln w="0">
            <a:noFill/>
          </a:ln>
        </p:spPr>
        <p:style>
          <a:lnRef idx="0"/>
          <a:fillRef idx="0"/>
          <a:effectRef idx="0"/>
          <a:fontRef idx="minor"/>
        </p:style>
        <p:txBody>
          <a:bodyPr lIns="90000" rIns="90000" tIns="46800" bIns="0" anchor="ctr">
            <a:spAutoFit/>
          </a:bodyPr>
          <a:p>
            <a:pPr algn="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0" lang="it-IT" sz="1800" spc="-1" strike="noStrike">
                <a:solidFill>
                  <a:srgbClr val="000000"/>
                </a:solidFill>
                <a:latin typeface="Arial"/>
              </a:rPr>
              <a:t> </a:t>
            </a:r>
            <a:r>
              <a:rPr b="1" lang="it-IT" sz="2800" spc="-1" strike="noStrike" u="sng">
                <a:solidFill>
                  <a:srgbClr val="000000"/>
                </a:solidFill>
                <a:uFillTx/>
                <a:latin typeface="Arial"/>
              </a:rPr>
              <a:t>FINALITA</a:t>
            </a:r>
            <a:r>
              <a:rPr b="1" lang="it-IT" sz="2400" spc="-1" strike="noStrike" u="sng">
                <a:solidFill>
                  <a:srgbClr val="000000"/>
                </a:solidFill>
                <a:uFillTx/>
                <a:latin typeface="Arial"/>
              </a:rPr>
              <a:t>’ </a:t>
            </a:r>
            <a:endParaRPr b="0" lang="en-US" sz="2400" spc="-1" strike="noStrike">
              <a:solidFill>
                <a:srgbClr val="000000"/>
              </a:solidFill>
              <a:latin typeface="Century Gothic"/>
            </a:endParaRPr>
          </a:p>
          <a:p>
            <a:pP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1" lang="it-IT" sz="2000" spc="-1" strike="noStrike">
                <a:solidFill>
                  <a:srgbClr val="000000"/>
                </a:solidFill>
                <a:latin typeface="Arial"/>
              </a:rPr>
              <a:t>Obiettivo ultimo. Volgere un’azione, un comportamento a un determinato fine, ideale o pratico. Realizzare un valore da tutelare, affermato dalla comunita’ che deve radicarsi. Prevede le dimensioni: prevenzione, cambiamento, riabilitazione</a:t>
            </a:r>
            <a:endParaRPr b="0" lang="en-US" sz="2000" spc="-1" strike="noStrike">
              <a:solidFill>
                <a:srgbClr val="000000"/>
              </a:solidFill>
              <a:latin typeface="Century Gothic"/>
            </a:endParaRPr>
          </a:p>
          <a:p>
            <a:pPr algn="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1" lang="it-IT" sz="2000" spc="-1" strike="noStrike">
                <a:solidFill>
                  <a:srgbClr val="000000"/>
                </a:solidFill>
                <a:latin typeface="Arial"/>
              </a:rPr>
              <a:t>Esempio:</a:t>
            </a:r>
            <a:endParaRPr b="0" lang="en-US" sz="2000" spc="-1" strike="noStrike">
              <a:solidFill>
                <a:srgbClr val="000000"/>
              </a:solidFill>
              <a:latin typeface="Century Gothic"/>
            </a:endParaRPr>
          </a:p>
          <a:p>
            <a:pP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entury Gothic"/>
            </a:endParaRPr>
          </a:p>
          <a:p>
            <a:pP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0" lang="it-IT" sz="2400" spc="-1" strike="noStrike">
                <a:solidFill>
                  <a:srgbClr val="000000"/>
                </a:solidFill>
                <a:latin typeface="Arial"/>
              </a:rPr>
              <a:t> </a:t>
            </a:r>
            <a:r>
              <a:rPr b="0" lang="it-IT" sz="2400" spc="-1" strike="noStrike">
                <a:solidFill>
                  <a:srgbClr val="000000"/>
                </a:solidFill>
                <a:latin typeface="Arial"/>
              </a:rPr>
              <a:t>- </a:t>
            </a:r>
            <a:r>
              <a:rPr b="1" lang="it-IT" sz="2400" spc="-1" strike="noStrike">
                <a:solidFill>
                  <a:srgbClr val="000000"/>
                </a:solidFill>
                <a:latin typeface="Arial"/>
              </a:rPr>
              <a:t>promuovere esperienze strumentali singole e d’insieme, significative nel rispetto dei singoli</a:t>
            </a:r>
            <a:r>
              <a:rPr b="0" lang="it-IT" sz="2400" spc="-1" strike="noStrike">
                <a:solidFill>
                  <a:srgbClr val="000000"/>
                </a:solidFill>
                <a:latin typeface="Arial"/>
              </a:rPr>
              <a:t> </a:t>
            </a:r>
            <a:r>
              <a:rPr b="1" lang="it-IT" sz="2400" spc="-1" strike="noStrike">
                <a:solidFill>
                  <a:srgbClr val="000000"/>
                </a:solidFill>
                <a:latin typeface="Arial"/>
              </a:rPr>
              <a:t>e del gruppo, che sviluppino potenziali di espressione, relazione e comunicazione  nel rapporto musica/società.</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3606480" y="0"/>
            <a:ext cx="5537160" cy="714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Parole chiave dell’Uda</a:t>
            </a:r>
            <a:endParaRPr b="0" lang="en-US" sz="3600" spc="-1" strike="noStrike">
              <a:solidFill>
                <a:srgbClr val="262626"/>
              </a:solidFill>
              <a:latin typeface="Century Gothic"/>
            </a:endParaRPr>
          </a:p>
        </p:txBody>
      </p:sp>
      <p:sp>
        <p:nvSpPr>
          <p:cNvPr id="1200" name="Text Box 6"/>
          <p:cNvSpPr/>
          <p:nvPr/>
        </p:nvSpPr>
        <p:spPr>
          <a:xfrm>
            <a:off x="1593720" y="900000"/>
            <a:ext cx="3500640" cy="436680"/>
          </a:xfrm>
          <a:prstGeom prst="rect">
            <a:avLst/>
          </a:prstGeom>
          <a:gradFill rotWithShape="0">
            <a:gsLst>
              <a:gs pos="0">
                <a:srgbClr val="bbe0e3"/>
              </a:gs>
              <a:gs pos="100000">
                <a:srgbClr val="eaf5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rial"/>
                <a:ea typeface="Arial Unicode MS"/>
              </a:rPr>
              <a:t>OBIETTIVI FORMATIVI</a:t>
            </a:r>
            <a:endParaRPr b="0" lang="en-US" sz="2200" spc="-1" strike="noStrike">
              <a:solidFill>
                <a:srgbClr val="000000"/>
              </a:solidFill>
              <a:latin typeface="Century Gothic"/>
            </a:endParaRPr>
          </a:p>
        </p:txBody>
      </p:sp>
      <p:sp>
        <p:nvSpPr>
          <p:cNvPr id="1201" name="Text Box 7"/>
          <p:cNvSpPr/>
          <p:nvPr/>
        </p:nvSpPr>
        <p:spPr>
          <a:xfrm>
            <a:off x="1419120" y="1341360"/>
            <a:ext cx="70660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Arial"/>
                <a:ea typeface="Arial Unicode MS"/>
              </a:rPr>
              <a:t>Costituiscono i </a:t>
            </a:r>
            <a:r>
              <a:rPr b="1" i="1" lang="en-GB" sz="2200" spc="-1" strike="noStrike">
                <a:solidFill>
                  <a:srgbClr val="ff6600"/>
                </a:solidFill>
                <a:latin typeface="Arial"/>
                <a:ea typeface="Arial Unicode MS"/>
              </a:rPr>
              <a:t>traguardi</a:t>
            </a:r>
            <a:r>
              <a:rPr b="1" i="1" lang="en-GB" sz="2200" spc="-1" strike="noStrike">
                <a:solidFill>
                  <a:srgbClr val="000000"/>
                </a:solidFill>
                <a:latin typeface="Arial"/>
                <a:ea typeface="Arial Unicode MS"/>
              </a:rPr>
              <a:t> </a:t>
            </a:r>
            <a:r>
              <a:rPr b="1" i="1" lang="en-GB" sz="2200" spc="-1" strike="noStrike">
                <a:solidFill>
                  <a:srgbClr val="ff6600"/>
                </a:solidFill>
                <a:latin typeface="Arial"/>
                <a:ea typeface="Arial Unicode MS"/>
              </a:rPr>
              <a:t>importanti e</a:t>
            </a:r>
            <a:r>
              <a:rPr b="1" i="1" lang="en-GB" sz="2200" spc="-1" strike="noStrike">
                <a:solidFill>
                  <a:srgbClr val="000000"/>
                </a:solidFill>
                <a:latin typeface="Arial"/>
                <a:ea typeface="Arial Unicode MS"/>
              </a:rPr>
              <a:t> </a:t>
            </a:r>
            <a:r>
              <a:rPr b="1" i="1" lang="en-GB" sz="2200" spc="-1" strike="noStrike">
                <a:solidFill>
                  <a:srgbClr val="ff6600"/>
                </a:solidFill>
                <a:latin typeface="Arial"/>
                <a:ea typeface="Arial Unicode MS"/>
              </a:rPr>
              <a:t>significativi</a:t>
            </a:r>
            <a:r>
              <a:rPr b="0" lang="en-GB" sz="2200" spc="-1" strike="noStrike">
                <a:solidFill>
                  <a:srgbClr val="000000"/>
                </a:solidFill>
                <a:latin typeface="Arial"/>
                <a:ea typeface="Arial Unicode MS"/>
              </a:rPr>
              <a:t> per la crescita intellettuale, emotive, affettiva, sociale di ogni singolo alunno, punti di partenza  e arrivo per ogni bambino e famiglia, la condizione e il risultato di ulteriori maturazioni.</a:t>
            </a:r>
            <a:endParaRPr b="0" lang="en-US" sz="2200" spc="-1" strike="noStrike">
              <a:solidFill>
                <a:srgbClr val="000000"/>
              </a:solidFill>
              <a:latin typeface="Century Gothic"/>
            </a:endParaRPr>
          </a:p>
        </p:txBody>
      </p:sp>
      <p:sp>
        <p:nvSpPr>
          <p:cNvPr id="1202" name="Rectangle 2"/>
          <p:cNvSpPr/>
          <p:nvPr/>
        </p:nvSpPr>
        <p:spPr>
          <a:xfrm>
            <a:off x="673200" y="3763800"/>
            <a:ext cx="7797600" cy="2525760"/>
          </a:xfrm>
          <a:prstGeom prst="rect">
            <a:avLst/>
          </a:prstGeom>
          <a:noFill/>
          <a:ln w="0">
            <a:noFill/>
          </a:ln>
        </p:spPr>
        <p:style>
          <a:lnRef idx="0"/>
          <a:fillRef idx="0"/>
          <a:effectRef idx="0"/>
          <a:fontRef idx="minor"/>
        </p:style>
        <p:txBody>
          <a:bodyPr lIns="90000" rIns="90000" tIns="46800" bIns="46800" anchor="t">
            <a:normAutofit/>
          </a:bodyPr>
          <a:p>
            <a:pPr marL="90360" indent="14400" algn="just">
              <a:lnSpc>
                <a:spcPct val="110000"/>
              </a:lnSpc>
              <a:spcBef>
                <a:spcPts val="550"/>
              </a:spcBef>
              <a:tabLst>
                <a:tab algn="l" pos="0"/>
                <a:tab algn="l" pos="660240"/>
                <a:tab algn="l" pos="1574640"/>
                <a:tab algn="l" pos="2489040"/>
                <a:tab algn="l" pos="3403440"/>
                <a:tab algn="l" pos="4317840"/>
                <a:tab algn="l" pos="5232240"/>
                <a:tab algn="l" pos="6146640"/>
                <a:tab algn="l" pos="7061040"/>
                <a:tab algn="l" pos="7975440"/>
                <a:tab algn="l" pos="8889840"/>
                <a:tab algn="l" pos="9804240"/>
                <a:tab algn="l" pos="10058400"/>
                <a:tab algn="l" pos="10515600"/>
              </a:tabLst>
            </a:pPr>
            <a:r>
              <a:rPr b="0" lang="en-GB" sz="1800" spc="-1" strike="noStrike">
                <a:solidFill>
                  <a:srgbClr val="404040"/>
                </a:solidFill>
                <a:latin typeface="Century Gothic"/>
              </a:rPr>
              <a:t>“</a:t>
            </a:r>
            <a:r>
              <a:rPr b="0" lang="en-GB" sz="1800" spc="-1" strike="noStrike">
                <a:solidFill>
                  <a:srgbClr val="404040"/>
                </a:solidFill>
                <a:latin typeface="Century Gothic"/>
              </a:rPr>
              <a:t>Indicano i </a:t>
            </a:r>
            <a:r>
              <a:rPr b="1" lang="en-GB" sz="1800" spc="-1" strike="noStrike">
                <a:solidFill>
                  <a:srgbClr val="ff6600"/>
                </a:solidFill>
                <a:latin typeface="Century Gothic"/>
              </a:rPr>
              <a:t>livelli essenziali di prestazione</a:t>
            </a:r>
            <a:r>
              <a:rPr b="0" lang="en-GB" sz="1800" spc="-1" strike="noStrike">
                <a:solidFill>
                  <a:srgbClr val="404040"/>
                </a:solidFill>
                <a:latin typeface="Century Gothic"/>
              </a:rPr>
              <a:t> che le scuole sono tenute, in generale, ad assicurare… soprattutto per consentire la possibilità di maturare in tutte le dimensioni disciplinari. E’ compito di ogni scuola e dei docenti, nel concreto della propria storia e del proprio territorio, assumersi la </a:t>
            </a:r>
            <a:r>
              <a:rPr b="1" lang="en-GB" sz="1800" spc="-1" strike="noStrike">
                <a:solidFill>
                  <a:srgbClr val="ff6600"/>
                </a:solidFill>
                <a:latin typeface="Century Gothic"/>
              </a:rPr>
              <a:t>libertà </a:t>
            </a:r>
            <a:r>
              <a:rPr b="0" lang="en-GB" sz="1800" spc="-1" strike="noStrike">
                <a:solidFill>
                  <a:srgbClr val="404040"/>
                </a:solidFill>
                <a:latin typeface="Century Gothic"/>
              </a:rPr>
              <a:t>di mediare, interpretare, ordinare, organizzare gli obiettivi specifici di apprendimento negli </a:t>
            </a:r>
            <a:r>
              <a:rPr b="1" lang="en-GB" sz="1800" spc="-1" strike="noStrike">
                <a:solidFill>
                  <a:srgbClr val="ff6600"/>
                </a:solidFill>
                <a:latin typeface="Century Gothic"/>
              </a:rPr>
              <a:t>obiettivi formativi</a:t>
            </a:r>
            <a:r>
              <a:rPr b="0" lang="en-GB" sz="1800" spc="-1" strike="noStrike">
                <a:solidFill>
                  <a:srgbClr val="404040"/>
                </a:solidFill>
                <a:latin typeface="Century Gothic"/>
              </a:rPr>
              <a:t>, nei contenuti, nei metodi e nelle verifiche delle Unità di Apprendimento”. (Ind. Naz. )</a:t>
            </a:r>
            <a:endParaRPr b="0" lang="en-US" sz="1800" spc="-1" strike="noStrike">
              <a:solidFill>
                <a:srgbClr val="000000"/>
              </a:solidFill>
              <a:latin typeface="Century Gothic"/>
            </a:endParaRPr>
          </a:p>
          <a:p>
            <a:pPr marL="90360" indent="14400">
              <a:lnSpc>
                <a:spcPct val="110000"/>
              </a:lnSpc>
              <a:spcBef>
                <a:spcPts val="550"/>
              </a:spcBef>
              <a:tabLst>
                <a:tab algn="l" pos="0"/>
                <a:tab algn="l" pos="660240"/>
                <a:tab algn="l" pos="1574640"/>
                <a:tab algn="l" pos="2489040"/>
                <a:tab algn="l" pos="3403440"/>
                <a:tab algn="l" pos="4317840"/>
                <a:tab algn="l" pos="5232240"/>
                <a:tab algn="l" pos="6146640"/>
                <a:tab algn="l" pos="7061040"/>
                <a:tab algn="l" pos="7975440"/>
                <a:tab algn="l" pos="8889840"/>
                <a:tab algn="l" pos="9804240"/>
                <a:tab algn="l" pos="10058400"/>
                <a:tab algn="l" pos="10515600"/>
              </a:tabLst>
            </a:pPr>
            <a:endParaRPr b="0" lang="en-US" sz="1800" spc="-1" strike="noStrike">
              <a:solidFill>
                <a:srgbClr val="000000"/>
              </a:solidFill>
              <a:latin typeface="Century Gothic"/>
            </a:endParaRPr>
          </a:p>
        </p:txBody>
      </p:sp>
      <p:sp>
        <p:nvSpPr>
          <p:cNvPr id="1203" name="Text Box 6"/>
          <p:cNvSpPr/>
          <p:nvPr/>
        </p:nvSpPr>
        <p:spPr>
          <a:xfrm>
            <a:off x="3749760" y="3228840"/>
            <a:ext cx="5251320" cy="436680"/>
          </a:xfrm>
          <a:prstGeom prst="rect">
            <a:avLst/>
          </a:prstGeom>
          <a:gradFill rotWithShape="0">
            <a:gsLst>
              <a:gs pos="0">
                <a:srgbClr val="bbe0e3"/>
              </a:gs>
              <a:gs pos="100000">
                <a:srgbClr val="eaf5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rial"/>
                <a:ea typeface="Arial Unicode MS"/>
              </a:rPr>
              <a:t>OBIETTIVI SPECIFICI/DISCIPLINARI</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pic>
        <p:nvPicPr>
          <p:cNvPr id="1205" name="" descr=""/>
          <p:cNvPicPr/>
          <p:nvPr/>
        </p:nvPicPr>
        <p:blipFill>
          <a:blip r:embed="rId1"/>
          <a:stretch/>
        </p:blipFill>
        <p:spPr>
          <a:xfrm>
            <a:off x="1942920" y="2133360"/>
            <a:ext cx="6591240" cy="377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6T14:10:54Z</dcterms:created>
  <dc:creator>Rosy cavallaro</dc:creator>
  <dc:description/>
  <dc:language>en-US</dc:language>
  <cp:lastModifiedBy>liliana minutoli</cp:lastModifiedBy>
  <cp:lastPrinted>2015-11-19T15:59:26Z</cp:lastPrinted>
  <dcterms:modified xsi:type="dcterms:W3CDTF">2020-10-29T12:24:58Z</dcterms:modified>
  <cp:revision>489</cp:revision>
  <dc:subject/>
  <dc:title>Presentazione standard di PowerPoint</dc:title>
</cp:coreProperties>
</file>